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CC2-015A-4907-BD7A-1CA8A61D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3C8-001E-4FF2-B86C-0EA18575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987-1C0E-447C-9349-6C3283F1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526-99CB-4B74-889B-47142992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1F6-4CCD-484F-82C1-8A9F75C1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E55-6068-48ED-935A-7DC4B4F2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E74-680F-44B1-B412-9D905198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EE0-CA1B-4D19-A67C-3AB51429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B84-4865-4280-A7A5-FC333247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E98-0A22-4C49-B2E9-A0A3525E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65A-6EBE-4C37-9B56-845C7F6F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608-A785-4DA8-A4B2-E53C01E4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05C4-466B-4ACF-8673-1D5461417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748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виз нашего урока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Считай несчастным тот день,  или  тот час, в который ты не усвоил ничего нового и ничего не прибавил к своему образованию»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Я.А. Каменский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84720" y="4797360"/>
            <a:ext cx="2232360" cy="184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Сравнение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-8 и 6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-2 и -8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-2 и 0.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6 и 0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981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Сравнить чис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77080" y="5013360"/>
            <a:ext cx="1942920" cy="160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3232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Тема урока</a:t>
            </a:r>
            <a:br>
              <a:rPr sz="7200"/>
            </a:br>
            <a:r>
              <a:rPr b="1" lang="en-US" sz="7200" spc="-1" strike="noStrike" u="sng">
                <a:solidFill>
                  <a:srgbClr val="ff3300"/>
                </a:solidFill>
                <a:uFillTx/>
                <a:latin typeface="Comic Sans MS"/>
              </a:rPr>
              <a:t>Сравнение чисе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76720" y="3573360"/>
            <a:ext cx="2808000" cy="232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Упражн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26920" y="2636640"/>
            <a:ext cx="3529080" cy="23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76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7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56360" y="1341360"/>
            <a:ext cx="224460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692280"/>
            <a:ext cx="2214360" cy="6493320"/>
            <a:chOff x="971640" y="692280"/>
            <a:chExt cx="2214360" cy="6493320"/>
          </a:xfrm>
        </p:grpSpPr>
        <p:sp>
          <p:nvSpPr>
            <p:cNvPr id="91" name=""/>
            <p:cNvSpPr/>
            <p:nvPr/>
          </p:nvSpPr>
          <p:spPr>
            <a:xfrm>
              <a:off x="971640" y="692280"/>
              <a:ext cx="2214360" cy="6493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Вариант 1.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 и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45  и  -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68  и  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3,25  и  -3,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     и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     и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4"/>
                <p:cNvSpPr txBox="1"/>
                <p:nvPr/>
              </p:nvSpPr>
              <p:spPr>
                <a:xfrm>
                  <a:off x="1614240" y="4692600"/>
                  <a:ext cx="3567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Object 5"/>
                <p:cNvSpPr txBox="1"/>
                <p:nvPr/>
              </p:nvSpPr>
              <p:spPr>
                <a:xfrm>
                  <a:off x="2471400" y="4763880"/>
                  <a:ext cx="35676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Object 4"/>
                <p:cNvSpPr txBox="1"/>
                <p:nvPr/>
              </p:nvSpPr>
              <p:spPr>
                <a:xfrm>
                  <a:off x="2543040" y="5621400"/>
                  <a:ext cx="50112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Object 7"/>
                <p:cNvSpPr txBox="1"/>
                <p:nvPr/>
              </p:nvSpPr>
              <p:spPr>
                <a:xfrm>
                  <a:off x="1471320" y="5621400"/>
                  <a:ext cx="499680" cy="92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" name=""/>
          <p:cNvGrpSpPr/>
          <p:nvPr/>
        </p:nvGrpSpPr>
        <p:grpSpPr>
          <a:xfrm>
            <a:off x="5580000" y="620640"/>
            <a:ext cx="2214720" cy="6493320"/>
            <a:chOff x="5580000" y="620640"/>
            <a:chExt cx="2214720" cy="6493320"/>
          </a:xfrm>
        </p:grpSpPr>
        <p:sp>
          <p:nvSpPr>
            <p:cNvPr id="97" name=""/>
            <p:cNvSpPr/>
            <p:nvPr/>
          </p:nvSpPr>
          <p:spPr>
            <a:xfrm>
              <a:off x="5580000" y="620640"/>
              <a:ext cx="2214720" cy="6493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Вариант 2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5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и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 и  -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и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и  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    и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     и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12"/>
                <p:cNvSpPr txBox="1"/>
                <p:nvPr/>
              </p:nvSpPr>
              <p:spPr>
                <a:xfrm>
                  <a:off x="6151680" y="4620960"/>
                  <a:ext cx="4017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Object 13"/>
                <p:cNvSpPr txBox="1"/>
                <p:nvPr/>
              </p:nvSpPr>
              <p:spPr>
                <a:xfrm>
                  <a:off x="7080480" y="4620960"/>
                  <a:ext cx="3841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14"/>
                <p:cNvSpPr txBox="1"/>
                <p:nvPr/>
              </p:nvSpPr>
              <p:spPr>
                <a:xfrm>
                  <a:off x="6151680" y="5549760"/>
                  <a:ext cx="3348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Object 15"/>
                <p:cNvSpPr txBox="1"/>
                <p:nvPr/>
              </p:nvSpPr>
              <p:spPr>
                <a:xfrm>
                  <a:off x="7223400" y="5549760"/>
                  <a:ext cx="333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2" name="TextBox 24" descr=""/>
          <p:cNvPicPr/>
          <p:nvPr/>
        </p:nvPicPr>
        <p:blipFill>
          <a:blip r:embed="rId2"/>
          <a:stretch/>
        </p:blipFill>
        <p:spPr>
          <a:xfrm>
            <a:off x="2066760" y="-96840"/>
            <a:ext cx="5224680" cy="86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24000" y="404640"/>
            <a:ext cx="2214360" cy="6493320"/>
            <a:chOff x="324000" y="404640"/>
            <a:chExt cx="2214360" cy="6493320"/>
          </a:xfrm>
        </p:grpSpPr>
        <p:sp>
          <p:nvSpPr>
            <p:cNvPr id="104" name=""/>
            <p:cNvSpPr/>
            <p:nvPr/>
          </p:nvSpPr>
          <p:spPr>
            <a:xfrm>
              <a:off x="324000" y="404640"/>
              <a:ext cx="2214360" cy="6493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ариант 1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45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-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68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3,25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-3,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801360" y="4444920"/>
              <a:ext cx="1644480" cy="1788480"/>
              <a:chOff x="801360" y="4444920"/>
              <a:chExt cx="1644480" cy="1788480"/>
            </a:xfrm>
          </p:grpSpPr>
          <mc:AlternateContent>
            <mc:Choice xmlns:a14="http://schemas.microsoft.com/office/drawing/2010/main" Requires="a14">
              <p:sp>
                <p:nvSpPr>
                  <p:cNvPr id="106" name="Object 6"/>
                  <p:cNvSpPr txBox="1"/>
                  <p:nvPr/>
                </p:nvSpPr>
                <p:spPr>
                  <a:xfrm>
                    <a:off x="943920" y="4444920"/>
                    <a:ext cx="357480" cy="91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" name="Object 9"/>
                  <p:cNvSpPr txBox="1"/>
                  <p:nvPr/>
                </p:nvSpPr>
                <p:spPr>
                  <a:xfrm>
                    <a:off x="1729800" y="4444920"/>
                    <a:ext cx="374760" cy="92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" name="Object 8"/>
                  <p:cNvSpPr txBox="1"/>
                  <p:nvPr/>
                </p:nvSpPr>
                <p:spPr>
                  <a:xfrm>
                    <a:off x="801360" y="5301720"/>
                    <a:ext cx="500040" cy="92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9" name="Object 11"/>
                  <p:cNvSpPr txBox="1"/>
                  <p:nvPr/>
                </p:nvSpPr>
                <p:spPr>
                  <a:xfrm>
                    <a:off x="1944360" y="5301720"/>
                    <a:ext cx="501480" cy="93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10" name=""/>
          <p:cNvGrpSpPr/>
          <p:nvPr/>
        </p:nvGrpSpPr>
        <p:grpSpPr>
          <a:xfrm>
            <a:off x="6588000" y="404640"/>
            <a:ext cx="2214720" cy="6493320"/>
            <a:chOff x="6588000" y="404640"/>
            <a:chExt cx="2214720" cy="6493320"/>
          </a:xfrm>
        </p:grpSpPr>
        <p:sp>
          <p:nvSpPr>
            <p:cNvPr id="111" name=""/>
            <p:cNvSpPr/>
            <p:nvPr/>
          </p:nvSpPr>
          <p:spPr>
            <a:xfrm>
              <a:off x="6588000" y="404640"/>
              <a:ext cx="2214720" cy="64933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ариант 2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5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-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7210440" y="4373280"/>
              <a:ext cx="1404360" cy="1931760"/>
              <a:chOff x="7210440" y="4373280"/>
              <a:chExt cx="1404360" cy="1931760"/>
            </a:xfrm>
          </p:grpSpPr>
          <mc:AlternateContent>
            <mc:Choice xmlns:a14="http://schemas.microsoft.com/office/drawing/2010/main" Requires="a14">
              <p:sp>
                <p:nvSpPr>
                  <p:cNvPr id="113" name="Object 16"/>
                  <p:cNvSpPr txBox="1"/>
                  <p:nvPr/>
                </p:nvSpPr>
                <p:spPr>
                  <a:xfrm>
                    <a:off x="7210440" y="4444560"/>
                    <a:ext cx="401400" cy="91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4" name="Object 17"/>
                  <p:cNvSpPr txBox="1"/>
                  <p:nvPr/>
                </p:nvSpPr>
                <p:spPr>
                  <a:xfrm>
                    <a:off x="8210160" y="4373280"/>
                    <a:ext cx="383760" cy="91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5" name="Object 18"/>
                  <p:cNvSpPr txBox="1"/>
                  <p:nvPr/>
                </p:nvSpPr>
                <p:spPr>
                  <a:xfrm>
                    <a:off x="7233840" y="5389200"/>
                    <a:ext cx="334800" cy="91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6" name="Object 19"/>
                  <p:cNvSpPr txBox="1"/>
                  <p:nvPr/>
                </p:nvSpPr>
                <p:spPr>
                  <a:xfrm>
                    <a:off x="8281800" y="5301720"/>
                    <a:ext cx="333000" cy="91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7" name=""/>
          <p:cNvSpPr/>
          <p:nvPr/>
        </p:nvSpPr>
        <p:spPr>
          <a:xfrm>
            <a:off x="2627280" y="1916280"/>
            <a:ext cx="3889440" cy="1653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  «+»   отметка 5,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-4  «+»   отметка 4 ,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  «+»   отметк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3132000" y="5950080"/>
            <a:ext cx="648000" cy="50328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07" h="21600">
                <a:moveTo>
                  <a:pt x="139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807" h="21600">
                <a:moveTo>
                  <a:pt x="15009" y="14281"/>
                </a:moveTo>
                <a:lnTo>
                  <a:pt x="15009" y="12323"/>
                </a:lnTo>
                <a:cubicBezTo>
                  <a:pt x="15009" y="11496"/>
                  <a:pt x="15339" y="10800"/>
                  <a:pt x="15940" y="10800"/>
                </a:cubicBezTo>
                <a:cubicBezTo>
                  <a:pt x="17072" y="10800"/>
                  <a:pt x="17968" y="9434"/>
                  <a:pt x="17968" y="7849"/>
                </a:cubicBezTo>
                <a:cubicBezTo>
                  <a:pt x="17968" y="5534"/>
                  <a:pt x="16114" y="3794"/>
                  <a:pt x="13903" y="3794"/>
                </a:cubicBezTo>
                <a:cubicBezTo>
                  <a:pt x="11693" y="3794"/>
                  <a:pt x="10022" y="5534"/>
                  <a:pt x="10022" y="7849"/>
                </a:cubicBezTo>
                <a:lnTo>
                  <a:pt x="11875" y="7849"/>
                </a:lnTo>
                <a:cubicBezTo>
                  <a:pt x="11875" y="6709"/>
                  <a:pt x="12798" y="5821"/>
                  <a:pt x="13903" y="5821"/>
                </a:cubicBezTo>
                <a:cubicBezTo>
                  <a:pt x="15009" y="5821"/>
                  <a:pt x="15940" y="6709"/>
                  <a:pt x="15940" y="7849"/>
                </a:cubicBezTo>
                <a:cubicBezTo>
                  <a:pt x="15940" y="8589"/>
                  <a:pt x="15470" y="9320"/>
                  <a:pt x="15009" y="9320"/>
                </a:cubicBezTo>
                <a:cubicBezTo>
                  <a:pt x="13903" y="9320"/>
                  <a:pt x="12798" y="10800"/>
                  <a:pt x="12798" y="12323"/>
                </a:cubicBezTo>
                <a:lnTo>
                  <a:pt x="12798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5292720" y="595008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15827" y="10800"/>
                </a:moveTo>
                <a:lnTo>
                  <a:pt x="5322" y="17806"/>
                </a:lnTo>
                <a:lnTo>
                  <a:pt x="5322" y="3794"/>
                </a:lnTo>
                <a:close/>
              </a:path>
              <a:path fill="darken" w="24657" h="21600">
                <a:moveTo>
                  <a:pt x="17673" y="3794"/>
                </a:moveTo>
                <a:lnTo>
                  <a:pt x="17673" y="17806"/>
                </a:lnTo>
                <a:lnTo>
                  <a:pt x="19335" y="17806"/>
                </a:lnTo>
                <a:lnTo>
                  <a:pt x="1933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Выполните те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Из двух чисел больше то, которое на координатной прямой расположено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) правее;   б) лев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з двух чисел меньше то, которое на координатной прямой расположено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) правее;   б) левее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Какое из данных чисел 0, -10, 12, -6 на координатной прямой расположено лев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) 0;             б) -10;              в )12;         г) -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Какое из данных чисел 0, -8, -14, 5  имеет наименьший моду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) 0;             б) -8;                в )-14;        г)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Запишите числа -5, 0, 11, - 2 в порядке возрас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) 0, 12, -5, 11;          б) 11, 0, -2, -5;           в ) -5, -2, 0,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133720"/>
            <a:ext cx="158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3284640"/>
            <a:ext cx="158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4437000"/>
            <a:ext cx="1224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5516640"/>
            <a:ext cx="1008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6453360"/>
            <a:ext cx="20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5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252360" y="1267920"/>
            <a:ext cx="91440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учить правило п 29 стр. 16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№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95, №997 стр. 16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195640" y="335772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Сегодня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47640" y="1413000"/>
            <a:ext cx="7258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Мне было интересно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Мне было труд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Больше всего мне понрави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Своей работой на уроке я доволен (не совсем, не доволен), потому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380960" cy="2089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620640"/>
            <a:ext cx="1152360" cy="396072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693000 h 3960720"/>
              <a:gd name="textAreaBottom" fmla="*/ 287172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25990" t="33220" r="27357" b="29824"/>
          <a:stretch/>
        </p:blipFill>
        <p:spPr>
          <a:xfrm>
            <a:off x="684360" y="1413000"/>
            <a:ext cx="7885080" cy="499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16977" r="22317" b="71959"/>
          <a:stretch/>
        </p:blipFill>
        <p:spPr>
          <a:xfrm>
            <a:off x="0" y="260280"/>
            <a:ext cx="8748720" cy="99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иведите примеры положительных чисел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Приведите примеры отрицательных чисе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Чем отличаются друг от друга положительные и отрицательные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Что можно сказать про число 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0" y="0"/>
            <a:ext cx="909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Положительные и отрицательные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flipH="1">
            <a:off x="7637040" y="0"/>
            <a:ext cx="1327320" cy="148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5840" y="476280"/>
            <a:ext cx="88581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з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; 8; 9; -1,5; 0; -1,6; -14; 110; -7; 120;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4; -120; -9; -8; 1; 4; 2,7; -15,9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овите :   а) натураль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цел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отрицатель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положитель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) пары противополож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Координатная прям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528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Запишите координаты отмеченных точ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Отметьте на координатной прямой точки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(4);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(-3,5);  Р(2,5);  К(-2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8900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Задание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8207640" cy="862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564000" y="5013360"/>
            <a:ext cx="1942920" cy="160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50920" y="2997360"/>
            <a:ext cx="8459640" cy="82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00"/>
                </a:solidFill>
                <a:uFillTx/>
                <a:latin typeface="Times New Roman"/>
              </a:rPr>
              <a:t>Отве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(-2);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(1,5);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(5);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(-4,5);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(0)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)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42920" y="3284640"/>
            <a:ext cx="7885080" cy="984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132000" y="4581360"/>
            <a:ext cx="5545440" cy="19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9     «+»   отметка 5,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8-7  «+»   отметка 4 ,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5-6  «+»   отметка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724360" y="0"/>
            <a:ext cx="3419640" cy="284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Противоположные числа.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Модуль чис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81440" y="1412640"/>
            <a:ext cx="9325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- Дайте определение противоположных чисел и приведите примеры.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- Что называется модулем числа 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- Чему равен модуль положительного числа? Приме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- Чему равен модуль отрицательного числа? Приме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- Чему равен модуль 0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12000" y="4797360"/>
            <a:ext cx="2158920" cy="18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Задание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5760" y="980640"/>
            <a:ext cx="88678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) Назовите точки, которые имеют противоположные координ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) Из данных чисел   -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,6;  2,05;  2,2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2,22;  2,53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выберите то, котор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меет наибольший моду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) Вычисли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|-4| ∙ 1,5;     34 - |- 16|;     |23| + |-8|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alphaModFix amt="45000"/>
          </a:blip>
          <a:stretch/>
        </p:blipFill>
        <p:spPr>
          <a:xfrm>
            <a:off x="611280" y="2133720"/>
            <a:ext cx="7777080" cy="7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31280" y="0"/>
            <a:ext cx="1512720" cy="125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Сравнение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146  и  234;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13,7  и  8,6;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и        ;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12,3  и  12,29;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981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Сравнить чис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916360" y="3284640"/>
            <a:ext cx="1176120" cy="122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932360" y="3284640"/>
            <a:ext cx="1049400" cy="1224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877080" y="5013360"/>
            <a:ext cx="1942920" cy="1606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284720" y="27082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356000" y="191628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4284720" y="364500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4284720" y="450864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07:39Z</dcterms:created>
  <dc:creator>Телиус</dc:creator>
  <dc:description/>
  <dc:language>en-US</dc:language>
  <cp:lastModifiedBy>Кабинет №12</cp:lastModifiedBy>
  <dcterms:modified xsi:type="dcterms:W3CDTF">2013-02-08T08:53:45Z</dcterms:modified>
  <cp:revision>22</cp:revision>
  <dc:subject/>
  <dc:title>Повторение</dc:title>
</cp:coreProperties>
</file>