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BEB-AD15-45F8-A618-F26FADB0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5FE-A8D2-4852-8144-EE52E01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3BA-5C56-41A3-AF1D-86476DA5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3E2-0190-4554-A64D-470D8931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6794-F9B8-49D3-8D49-4DE6EAC8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BF7E-66F0-4FDB-A9BA-1848E53A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9FD4-1E3C-4F10-9035-6060F00C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CBF-623F-4479-A242-12BEEEA7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513-77F7-44D1-A35F-3CFF7E1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EB07-2DCC-4009-A46F-EC719F2E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93A7-1DD2-43C1-8A91-57DC095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9EC-A248-446B-9B0A-49DBEC05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C59-7515-4019-944E-0F80869A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DF7-8559-4A3B-9DF5-C70B2B2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61C1-DE15-423B-A836-5DA20CA6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2EB6-A58F-446C-A23B-B23EEBE5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52DC-BB8C-472A-AD42-F6864E67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A02-2841-4E34-9C0C-45185F8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E02-655D-432B-A317-7437ED74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394-2992-460C-8560-9A6FE87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578-47F1-40DD-9BDE-67059746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A56-4013-4185-B38F-1CC79F0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FC7-A6E2-44EE-81C7-68F2EF5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C53-859C-4030-BC1F-63ADA8AD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C5C-FFDE-41AC-9193-5C148EB395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E008-B06A-4B4A-AB3C-8D2D0BC93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408/111147122.2/0_55a6a_88136e5f_X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2A2-F7F8-468E-BB49-0E12C23626C6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олните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792160" y="1325160"/>
            <a:ext cx="351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,6+4,7=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16+5,2=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,3+12,17=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,6+5,123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5,17+3,9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+2,73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,5+6,001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0DA-B6C1-4B48-BBC5-3E31F8AADD6D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1503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Эталон для самопровер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9840" y="471240"/>
            <a:ext cx="87807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64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Уравнять в этих дробях количество знаков после запятой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4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,4+5,37=23,40+5,37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14,16+31,12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824,5+4,17= 824,50+4,17=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7,4+3,256=7,400+3,256=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0,023+6,4=0,023+6,400=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42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Записать их друг под другом так, чтобы запятая была под запятой:</a:t>
            </a:r>
            <a:br>
              <a:rPr sz="2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ыполнить сложение, не обращая внимание на запяту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Поставить в ответе запятую под запятой в данных дроб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65320" y="2967120"/>
            <a:ext cx="6792480" cy="858240"/>
            <a:chOff x="1165320" y="2967120"/>
            <a:chExt cx="6792480" cy="858240"/>
          </a:xfrm>
        </p:grpSpPr>
        <p:sp>
          <p:nvSpPr>
            <p:cNvPr id="231" name=""/>
            <p:cNvSpPr/>
            <p:nvPr/>
          </p:nvSpPr>
          <p:spPr>
            <a:xfrm>
              <a:off x="1165320" y="2981160"/>
              <a:ext cx="1315080" cy="844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3,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,3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28360" y="2977560"/>
              <a:ext cx="1315080" cy="84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4,1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1,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6240" y="2978640"/>
              <a:ext cx="1275120" cy="844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24,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,1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4280" y="2978640"/>
              <a:ext cx="1153440" cy="844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,25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6480" y="2967120"/>
              <a:ext cx="1111320" cy="84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,02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,4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5520" y="4967280"/>
            <a:ext cx="8813520" cy="1428840"/>
            <a:chOff x="155520" y="4967280"/>
            <a:chExt cx="8813520" cy="1428840"/>
          </a:xfrm>
        </p:grpSpPr>
        <p:sp>
          <p:nvSpPr>
            <p:cNvPr id="237" name=""/>
            <p:cNvSpPr/>
            <p:nvPr/>
          </p:nvSpPr>
          <p:spPr>
            <a:xfrm>
              <a:off x="155520" y="4967280"/>
              <a:ext cx="1816920" cy="1423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3,4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5,3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8,7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63240" y="4972680"/>
              <a:ext cx="1528560" cy="1423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4,1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31,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5,2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6840" y="4993200"/>
              <a:ext cx="1471680" cy="137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24,5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  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4,1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28,6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81440" y="4992120"/>
              <a:ext cx="1517760" cy="1366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3,25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,65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02960" y="4999680"/>
              <a:ext cx="1666080" cy="13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,0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</a:rPr>
                <a:t>6,40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,42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6034-6871-46BB-A395-92F4AB6A84F4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лгоритм вычитания десятичных дробей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внять в этих дробях количество знаков после запят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исать их друг под другом так, чтобы запятая была под запят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ть вычитание, не обращая внимание на запяту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ить в ответе запятую под запятой в данных дроб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134-4469-4F28-B094-87AC9EDADD44}" type="slidenum">
              <a:t>12</a:t>
            </a:fld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64620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31840" y="3173400"/>
            <a:ext cx="25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b46d0"/>
                </a:solidFill>
                <a:latin typeface="Arial"/>
              </a:rPr>
              <a:t>Домашнее зад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46d0"/>
                </a:solidFill>
                <a:latin typeface="Arial"/>
              </a:rPr>
              <a:t>П.32, стр.190-191, №1211, №12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8B1-3082-4097-AADD-ED48BB68E2D5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4620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DC7-6DB5-4B5E-B0BB-ECCDC6D42442}" type="slidenum">
              <a:t>14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21 из 1604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8480" y="763560"/>
            <a:ext cx="6215040" cy="518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999-A766-4240-893D-E994151F6908}" type="slidenum">
              <a:t>2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30360" y="447840"/>
            <a:ext cx="154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,1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463680"/>
            <a:ext cx="12621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,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5320" y="1238400"/>
            <a:ext cx="15447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,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8480" y="1233360"/>
            <a:ext cx="1022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1520" y="2014560"/>
            <a:ext cx="154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,5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84600" y="2009880"/>
            <a:ext cx="10429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3360" y="2770200"/>
            <a:ext cx="19684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,6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67320" y="2763720"/>
            <a:ext cx="1554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,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6880" y="3538440"/>
            <a:ext cx="19684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,1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532320"/>
            <a:ext cx="1565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0400" y="4327560"/>
            <a:ext cx="19684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,8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49680" y="4327560"/>
            <a:ext cx="1314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,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560" y="5100480"/>
            <a:ext cx="2178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2,5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22680" y="5114880"/>
            <a:ext cx="1808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12,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43560" y="5842080"/>
            <a:ext cx="2097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22,0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6400" y="5834160"/>
            <a:ext cx="27068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22,022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8360" y="630360"/>
            <a:ext cx="762120" cy="401400"/>
          </a:xfrm>
          <a:prstGeom prst="rightArrow">
            <a:avLst>
              <a:gd name="adj1" fmla="val 50000"/>
              <a:gd name="adj2" fmla="val 474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35480" y="1378080"/>
            <a:ext cx="761760" cy="401400"/>
          </a:xfrm>
          <a:prstGeom prst="rightArrow">
            <a:avLst>
              <a:gd name="adj1" fmla="val 50000"/>
              <a:gd name="adj2" fmla="val 4744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40160" y="2133720"/>
            <a:ext cx="762120" cy="401400"/>
          </a:xfrm>
          <a:prstGeom prst="rightArrow">
            <a:avLst>
              <a:gd name="adj1" fmla="val 50000"/>
              <a:gd name="adj2" fmla="val 474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51320" y="2938320"/>
            <a:ext cx="761760" cy="401760"/>
          </a:xfrm>
          <a:prstGeom prst="rightArrow">
            <a:avLst>
              <a:gd name="adj1" fmla="val 50000"/>
              <a:gd name="adj2" fmla="val 474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40160" y="3713040"/>
            <a:ext cx="762120" cy="401760"/>
          </a:xfrm>
          <a:prstGeom prst="rightArrow">
            <a:avLst>
              <a:gd name="adj1" fmla="val 50000"/>
              <a:gd name="adj2" fmla="val 474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19640" y="4430880"/>
            <a:ext cx="761760" cy="401400"/>
          </a:xfrm>
          <a:prstGeom prst="rightArrow">
            <a:avLst>
              <a:gd name="adj1" fmla="val 50000"/>
              <a:gd name="adj2" fmla="val 4744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5235480"/>
            <a:ext cx="762120" cy="401760"/>
          </a:xfrm>
          <a:prstGeom prst="rightArrow">
            <a:avLst>
              <a:gd name="adj1" fmla="val 50000"/>
              <a:gd name="adj2" fmla="val 474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51320" y="5987880"/>
            <a:ext cx="761760" cy="401760"/>
          </a:xfrm>
          <a:prstGeom prst="rightArrow">
            <a:avLst>
              <a:gd name="adj1" fmla="val 50000"/>
              <a:gd name="adj2" fmla="val 474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2FBF-1048-4F88-9835-AC1D441AE8C6}" type="slidenum">
              <a:t>3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97000" y="2416320"/>
          <a:ext cx="8511840" cy="806400"/>
        </p:xfrm>
        <a:graphic>
          <a:graphicData uri="http://schemas.openxmlformats.org/drawingml/2006/table">
            <a:tbl>
              <a:tblPr/>
              <a:tblGrid>
                <a:gridCol w="1702080"/>
                <a:gridCol w="1701000"/>
                <a:gridCol w="1705680"/>
                <a:gridCol w="1701000"/>
                <a:gridCol w="170208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63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82680" y="3638520"/>
            <a:ext cx="8366040" cy="398520"/>
          </a:xfrm>
          <a:custGeom>
            <a:avLst/>
            <a:gdLst>
              <a:gd name="textAreaLeft" fmla="*/ 1307160 w 8366040"/>
              <a:gd name="textAreaRight" fmla="*/ 7320600 w 8366040"/>
              <a:gd name="textAreaTop" fmla="*/ 99720 h 398520"/>
              <a:gd name="textAreaBottom" fmla="*/ 299160 h 398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6680" y="4573440"/>
          <a:ext cx="8454960" cy="787320"/>
        </p:xfrm>
        <a:graphic>
          <a:graphicData uri="http://schemas.openxmlformats.org/drawingml/2006/table">
            <a:tbl>
              <a:tblPr/>
              <a:tblGrid>
                <a:gridCol w="1690560"/>
                <a:gridCol w="1690920"/>
                <a:gridCol w="1692360"/>
                <a:gridCol w="1690560"/>
                <a:gridCol w="16905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84200" y="84924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оложите десятичные дроби в порядке возрас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2640" y="4616280"/>
            <a:ext cx="90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0,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51160" y="457056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0,5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6680" y="4586400"/>
            <a:ext cx="135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,63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18040" y="4587840"/>
            <a:ext cx="90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62800" y="4564080"/>
            <a:ext cx="11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,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63B-FC70-4AEE-B31D-E457332AD4F4}" type="slidenum">
              <a:t>4</a:t>
            </a:fld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17520" y="690480"/>
          <a:ext cx="8667360" cy="1443600"/>
        </p:xfrm>
        <a:graphic>
          <a:graphicData uri="http://schemas.openxmlformats.org/drawingml/2006/table">
            <a:tbl>
              <a:tblPr/>
              <a:tblGrid>
                <a:gridCol w="2887560"/>
                <a:gridCol w="2890080"/>
                <a:gridCol w="2889720"/>
              </a:tblGrid>
              <a:tr h="14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6 и 2,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1 и 6,1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413 и 0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560840"/>
          <a:ext cx="9294840" cy="1168560"/>
        </p:xfrm>
        <a:graphic>
          <a:graphicData uri="http://schemas.openxmlformats.org/drawingml/2006/table">
            <a:tbl>
              <a:tblPr/>
              <a:tblGrid>
                <a:gridCol w="2938320"/>
                <a:gridCol w="3257640"/>
                <a:gridCol w="30988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r>
                        <a:rPr b="0" lang="ru-RU" sz="36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2,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r>
                        <a:rPr b="0" lang="ru-RU" sz="36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6,1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0,413 </a:t>
                      </a:r>
                      <a:r>
                        <a:rPr b="0" lang="en-US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3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0,6</a:t>
                      </a:r>
                      <a:r>
                        <a:rPr b="0" lang="ru-RU" sz="36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528480" y="3041640"/>
            <a:ext cx="240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2,6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2,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10040" y="3046320"/>
            <a:ext cx="35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6,31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6,12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0520" y="3052800"/>
            <a:ext cx="34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0,413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0,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5640" y="2103480"/>
            <a:ext cx="858600" cy="1001520"/>
          </a:xfrm>
          <a:prstGeom prst="downArrow">
            <a:avLst>
              <a:gd name="adj1" fmla="val 50000"/>
              <a:gd name="adj2" fmla="val 2916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7480" y="2119320"/>
            <a:ext cx="858960" cy="1001880"/>
          </a:xfrm>
          <a:prstGeom prst="downArrow">
            <a:avLst>
              <a:gd name="adj1" fmla="val 50000"/>
              <a:gd name="adj2" fmla="val 2916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67600" y="2133720"/>
            <a:ext cx="858960" cy="100152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30320" y="4348080"/>
            <a:ext cx="7966080" cy="434880"/>
            <a:chOff x="1030320" y="4348080"/>
            <a:chExt cx="7966080" cy="434880"/>
          </a:xfrm>
        </p:grpSpPr>
        <p:sp>
          <p:nvSpPr>
            <p:cNvPr id="206" name=""/>
            <p:cNvSpPr/>
            <p:nvPr/>
          </p:nvSpPr>
          <p:spPr>
            <a:xfrm>
              <a:off x="1030320" y="4348080"/>
              <a:ext cx="263520" cy="408240"/>
            </a:xfrm>
            <a:prstGeom prst="downArrow">
              <a:avLst>
                <a:gd name="adj1" fmla="val 50000"/>
                <a:gd name="adj2" fmla="val 3873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29120" y="4371840"/>
              <a:ext cx="263520" cy="408240"/>
            </a:xfrm>
            <a:prstGeom prst="downArrow">
              <a:avLst>
                <a:gd name="adj1" fmla="val 50000"/>
                <a:gd name="adj2" fmla="val 3873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32880" y="4373640"/>
              <a:ext cx="263520" cy="407880"/>
            </a:xfrm>
            <a:prstGeom prst="downArrow">
              <a:avLst>
                <a:gd name="adj1" fmla="val 50000"/>
                <a:gd name="adj2" fmla="val 3869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05720" y="4375080"/>
              <a:ext cx="263520" cy="407880"/>
            </a:xfrm>
            <a:prstGeom prst="downArrow">
              <a:avLst>
                <a:gd name="adj1" fmla="val 50000"/>
                <a:gd name="adj2" fmla="val 3869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4000" y="39852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 десятичные дро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746-BC8F-4C01-B9A2-D150860A8BBC}" type="slidenum">
              <a:t>5</a:t>
            </a:fld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4624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полните действ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34880" y="1670040"/>
            <a:ext cx="64008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26 + 232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34 + 563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0440" y="1720800"/>
            <a:ext cx="13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8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76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519120" y="279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19360" y="3073320"/>
            <a:ext cx="6764400" cy="35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716440" y="3179880"/>
                <a:ext cx="1405080" cy="33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77960" y="3218040"/>
                <a:ext cx="3103560" cy="31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6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933B-E6DD-4AA5-A033-28E21F846E5B}" type="slidenum">
              <a:t>6</a:t>
            </a:fld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20880" y="3165120"/>
            <a:ext cx="56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Times New Roman"/>
              </a:rPr>
              <a:t>3,6 +1,251=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31120" y="1851840"/>
            <a:ext cx="1682640" cy="3263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690-2797-41AF-8A84-3017A00DB1D8}" type="slidenum">
              <a:t>7</a:t>
            </a:fld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9360" y="1456920"/>
            <a:ext cx="838512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Georgia"/>
              </a:rPr>
              <a:t>Сложение </a:t>
            </a:r>
            <a:br>
              <a:rPr sz="6000"/>
            </a:br>
            <a:r>
              <a:rPr b="1" i="1" lang="en-US" sz="6000" spc="-1" strike="noStrike">
                <a:solidFill>
                  <a:srgbClr val="ffff99"/>
                </a:solidFill>
                <a:latin typeface="Georgia"/>
              </a:rPr>
              <a:t>и вычитание десятичных дробе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A64-787D-4CE5-959D-914F209785EB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формулируйте алгоритм сложения десятичных дроб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3240" y="18522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авнять в этих дробях количество знаков после запят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исать их друг под другом так, чтобы запятая была под запят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ть сложение, не обращая внимание на запят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вить в ответе запятую под запятой в данных дробях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5E2-FA96-4078-ACD4-F1C1DD937D36}" type="slidenum">
              <a:t>9</a:t>
            </a:fld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4:22:08Z</dcterms:created>
  <dc:creator>Левченко</dc:creator>
  <dc:description/>
  <dc:language>en-US</dc:language>
  <cp:lastModifiedBy>Левченко</cp:lastModifiedBy>
  <dcterms:modified xsi:type="dcterms:W3CDTF">2011-02-20T15:50:18Z</dcterms:modified>
  <cp:revision>6</cp:revision>
  <dc:subject/>
  <dc:title>Слайд 1</dc:title>
</cp:coreProperties>
</file>