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0.png" ContentType="image/png"/>
  <Override PartName="/ppt/media/image6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2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13.wmf" ContentType="image/x-wmf"/>
  <Override PartName="/ppt/media/image42.png" ContentType="image/png"/>
  <Override PartName="/ppt/media/image39.png" ContentType="image/png"/>
  <Override PartName="/ppt/media/image9.png" ContentType="image/png"/>
  <Override PartName="/ppt/media/image7.jpeg" ContentType="image/jpeg"/>
  <Override PartName="/ppt/media/image28.png" ContentType="image/png"/>
  <Override PartName="/ppt/media/image31.wmf" ContentType="image/x-wmf"/>
  <Override PartName="/ppt/media/image11.wmf" ContentType="image/x-wmf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DCB3-5409-4CFC-AC65-5A2424A93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0489-1F0A-41F0-B21C-2E97044FF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казательства пункта 2. сделайте клик по кнопке «?»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перехода к слайду № 28  сделайте клик по кнопке «астр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6F6-B80F-4C7A-BA2E-31CA605A5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627-2F66-416F-AB5B-801E9178D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A46-AC44-48F3-B098-A7303E0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DBD-7971-48F6-B038-3BE71C3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6EB2-E09D-4C49-987C-75934EF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2EEA-3B00-43C0-9CAC-68CDCFD0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83F8-67D2-4ABA-8C5E-76D8AF6F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FC3C9-5E6F-4131-B4DC-DDCEEC4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D83E1-8C28-464F-8417-2C81015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C3A2D-5173-4A45-8479-DE57F1C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7A15-801B-4A73-83F7-3C921CF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4D67A-E794-4460-8698-BA703274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098F-B32B-42F3-8E08-C6AC4C5E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01166-C2CF-4705-B02B-AA2A948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3E8-1277-4046-9B13-CE16FE6D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EB07D-2D76-4047-A2F9-0B7A8D0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2B546-28E7-45AC-9D22-CC7C271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BA867-7CEC-4FE0-876C-58C229AD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D04BB-C4F0-4CA3-B189-79B835DC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48579-ED23-4952-A142-D0AE2C4E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A8DF4-BB2C-4954-9E71-B0F88FC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556D0-BD0D-4B11-A84F-8CC4563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8AD7-C322-4AEB-A4A5-3A9FC32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B3400-FCF1-40C8-B14A-ABCBF192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55B13-DF20-4A72-A3EB-B7AA4F03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CA7-37B2-496B-B0A1-BB7D0064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A2032-5FA0-41C1-905B-2EE3A888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0025-B0D0-4E22-9847-8F737110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D7167-5304-4D16-970A-F1E996F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E5EE1-3F49-4CFB-82E2-5DF1753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F188A-B336-4CC4-BADD-F6B60628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24E2B-CD86-4BD8-8F8F-3B8ACE1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9A46D-18D9-4464-ACE9-0CD0368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4C58-E0A1-4714-AABE-09A275E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2CC5-543E-4AA3-B779-CCB14C1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819B8-1551-44BC-97A9-EE71238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99D-119D-4303-9C7B-BD7E6664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D46D0-7E8D-4A0D-9352-C2400094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72E8E-4597-4620-89CA-4FDBB7D1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E2D3B-ACE5-4628-994C-91E59F2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D63B-C685-45BA-9269-72ABE337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E1C5-5398-45DC-A305-56058BA4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5EF-588B-47E7-86F3-62F4D46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2385-4CE2-40C8-A3E6-8F0DE93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649-C962-485E-89EB-64187C9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B3E6-0CAD-43BB-882A-F350318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D2A-D4C1-4754-9747-2DF534B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3B7-FA80-444D-AEE9-5197B66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8AA-D261-4EAD-A41F-FC5757C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CB0E-0DAF-4ED0-B460-1160D44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595B-2F4B-4469-A008-A37F8C86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1622-590C-4F4C-957F-1F49B8F3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6E5D-37EC-4A69-9E59-52445F6C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0BE0-820C-48BB-96C9-C143578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B234-70F3-4487-9D9F-1F352B7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E963-F697-42B1-A936-4B98FC10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5841-10EE-4E02-8F43-395C1BF3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5E-8BCA-426D-81C6-EF55B334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152A-C49B-42EA-AF08-829AEC8C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A20E-DC1D-496B-ABF6-D985668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5A10-95E7-4E07-BD65-151EB87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F012-F915-453C-8D28-9570544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2BB9-FC4B-43B9-8D4A-55748C84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E594-736D-4490-BE15-AA0C566B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463B-D5F8-4907-B304-A0E3DC0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8B25-4554-4EC8-90F3-8A26C0BC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E74B-4DA0-4F8B-A39A-B7C583F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C093-52F0-427D-908A-980D5B0D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1F6-7AD9-47FD-8872-0344873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4C96-F25A-4C9B-82A5-FAF5517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04AC-1ACC-40BB-9263-4361626E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D35F-8BB1-4B64-AF84-FDA85A5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4631-2246-4F25-B6F1-64CA1FC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B334-BEB2-42A5-9612-73B94B5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836C-0041-4AC8-A13F-17B1550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1259-A06C-4127-8F28-3F7C384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EC1F-6071-4CC8-B4E6-D5498663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395A-5B79-452C-9A17-CC6E8E13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D148-74B9-4BEF-B368-A940EBDB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107-97BF-4300-8B96-B6E0A83B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92CA-79E9-4FCE-8976-02652E9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0322-BB3D-4172-A695-F7E47B0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3283-DCBD-4608-B0E7-307CC4B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479E-6BF4-4974-8E24-A89259B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67D1-6E4D-49C0-9EE9-AEA95C93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C8EC-80F5-4090-9CC5-7AE1454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22F6-51CB-4212-B0F5-77D5C6A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3D8E-87F8-41D3-A78B-8CDB0F2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E439-8296-4820-BB85-F5FAEC4D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9DEC-902B-4501-99A0-6D195402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47F-AEB7-4265-A33C-043D033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D6B2-4AB1-4AB0-B1DD-7E7A7EA3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033E-E7A5-47D1-ABAD-5C149EE1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17007-9F6B-4E20-84D6-7EDC2FFB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9592-4456-4ED8-9306-346B296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3CA3-E747-487F-AE29-31774214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EFAA3-2C87-42BE-B971-9EC2C160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974F3-4404-4D7F-9803-E06E4073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A508-C3E1-4F2D-877F-20EC41D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4388-041F-49BE-95CC-BD47C017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6B75-9B34-4367-B125-DD38EF2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1D6-412B-43C6-A7AF-F21E195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B185-545D-422B-9B4A-716D5F0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4290-5336-4C75-8325-149C4416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98E4-5FF8-428D-BACD-AC81E51E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37BC-2860-4AC9-BAE6-7E746CCE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2857-D7D0-4D22-A878-1FB206F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5396-5867-409E-A70E-AB170CA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0532-B4C3-41B5-9E75-BBD460E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970B-F85B-4E16-ADE7-6C588A41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DBE7-665C-4244-8A8B-90050064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71739-859D-45B1-957D-B51E208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5A2-619B-4204-AE53-03E9229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DA005-5E2B-4EE2-A314-6414221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9353-52C4-4109-9C93-1B54178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B1A8-68B4-4569-8DEF-B2AD925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CBEF-DBFF-40C9-9027-8611CFC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C6A1-B351-42A9-AAAF-4FAA2A16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AA1B-8FA7-40A9-8CC9-1A044ADC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4950-D03C-414C-8A68-E17D3F2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DCC09-018D-4E4D-8175-6358605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09E4-120A-4F53-A30C-1DBE190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38867-8885-4C00-B4DA-AA8A5CE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249-F299-4539-9683-57FC55BE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3EF9-DFD8-4662-94E4-844F232F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470AF-E52A-4B50-B64D-ACE6356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0489-4B3E-45C2-BE29-60373E0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1006-839F-429E-AEA4-EBD5984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2EEE0-BE6F-4629-8D18-324D94A6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644E-D2AF-471D-8A2D-3E73C1F4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4833-F7ED-4F8A-9ED1-0220D851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46491-F7FB-45F2-899F-0948E6AC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5136E-6B97-4ADB-9A14-C874D716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AEC1A-D0CD-4A11-9EA2-1F8D0453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052-B1B4-478E-8336-FE11A4C275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80D-63A0-45D8-AF70-4465203A8B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1E4-9224-4DD8-BDA7-DC02B7D644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26C4-3007-4493-837B-9BC82A5319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44B-72C3-467C-8184-3E6CDD89AC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2E8-23EB-4097-A52D-2CC874A85C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1AB-E260-4E1E-93B6-1B22CAF3C4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3ADF-ABE3-432A-B263-7336AFE979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2F4-0EE4-4303-BDB0-8F857993CC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4A7-5840-4453-9CBC-DBCE3568F5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B884-AD10-4701-906C-CAC9265942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1" descr=""/>
          <p:cNvPicPr/>
          <p:nvPr/>
        </p:nvPicPr>
        <p:blipFill>
          <a:blip r:embed="rId2"/>
          <a:stretch/>
        </p:blipFill>
        <p:spPr>
          <a:xfrm>
            <a:off x="828720" y="762120"/>
            <a:ext cx="801684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134"/>
          <p:cNvSpPr/>
          <p:nvPr/>
        </p:nvSpPr>
        <p:spPr>
          <a:xfrm flipH="1">
            <a:off x="5962320" y="2585880"/>
            <a:ext cx="2119320" cy="19782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5"/>
          <p:cNvSpPr/>
          <p:nvPr/>
        </p:nvSpPr>
        <p:spPr>
          <a:xfrm rot="19560000">
            <a:off x="3122640" y="3018960"/>
            <a:ext cx="2160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9"/>
          <p:cNvSpPr/>
          <p:nvPr/>
        </p:nvSpPr>
        <p:spPr>
          <a:xfrm rot="1440000">
            <a:off x="7451280" y="2312640"/>
            <a:ext cx="1303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09"/>
          <p:cNvSpPr/>
          <p:nvPr/>
        </p:nvSpPr>
        <p:spPr>
          <a:xfrm rot="18960000">
            <a:off x="6289200" y="2806200"/>
            <a:ext cx="131760" cy="13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97"/>
          <p:cNvSpPr/>
          <p:nvPr/>
        </p:nvSpPr>
        <p:spPr>
          <a:xfrm rot="20340000">
            <a:off x="6789600" y="3040200"/>
            <a:ext cx="13032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"/>
          <p:cNvSpPr/>
          <p:nvPr/>
        </p:nvSpPr>
        <p:spPr>
          <a:xfrm>
            <a:off x="1116000" y="5011560"/>
            <a:ext cx="35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"/>
          <p:cNvSpPr/>
          <p:nvPr/>
        </p:nvSpPr>
        <p:spPr>
          <a:xfrm flipV="1">
            <a:off x="1116000" y="1268280"/>
            <a:ext cx="1008000" cy="37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"/>
          <p:cNvSpPr/>
          <p:nvPr/>
        </p:nvSpPr>
        <p:spPr>
          <a:xfrm>
            <a:off x="2124000" y="1268280"/>
            <a:ext cx="2519280" cy="37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468360" y="108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Точка пересечения серединных перпендикуляров к сторонам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539640" y="494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4716360" y="50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1187280" y="10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9"/>
          <p:cNvSpPr/>
          <p:nvPr/>
        </p:nvSpPr>
        <p:spPr>
          <a:xfrm rot="20422800">
            <a:off x="539280" y="1123560"/>
            <a:ext cx="4678560" cy="46785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2"/>
          <p:cNvSpPr/>
          <p:nvPr/>
        </p:nvSpPr>
        <p:spPr>
          <a:xfrm>
            <a:off x="255600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4"/>
          <p:cNvSpPr/>
          <p:nvPr/>
        </p:nvSpPr>
        <p:spPr>
          <a:xfrm>
            <a:off x="2870280" y="4795920"/>
            <a:ext cx="21600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6"/>
          <p:cNvSpPr/>
          <p:nvPr/>
        </p:nvSpPr>
        <p:spPr>
          <a:xfrm rot="900000">
            <a:off x="1582560" y="3181320"/>
            <a:ext cx="2160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7"/>
          <p:cNvSpPr/>
          <p:nvPr/>
        </p:nvSpPr>
        <p:spPr>
          <a:xfrm>
            <a:off x="2870280" y="2671920"/>
            <a:ext cx="0" cy="233964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>
            <a:off x="1619280" y="3159000"/>
            <a:ext cx="2670120" cy="719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H="1">
            <a:off x="1547280" y="3141720"/>
            <a:ext cx="1870200" cy="125892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2"/>
          <p:cNvSpPr/>
          <p:nvPr/>
        </p:nvSpPr>
        <p:spPr>
          <a:xfrm flipH="1" flipV="1">
            <a:off x="2108520" y="1251360"/>
            <a:ext cx="1523520" cy="44236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35"/>
          <p:cNvSpPr/>
          <p:nvPr/>
        </p:nvSpPr>
        <p:spPr>
          <a:xfrm>
            <a:off x="1106640" y="5011560"/>
            <a:ext cx="1763640" cy="289080"/>
          </a:xfrm>
          <a:custGeom>
            <a:avLst/>
            <a:gdLst/>
            <a:ahLst/>
            <a:rect l="l" t="t" r="r" b="b"/>
            <a:pathLst>
              <a:path w="1088" h="182">
                <a:moveTo>
                  <a:pt x="0" y="0"/>
                </a:moveTo>
                <a:cubicBezTo>
                  <a:pt x="295" y="91"/>
                  <a:pt x="590" y="182"/>
                  <a:pt x="771" y="182"/>
                </a:cubicBezTo>
                <a:cubicBezTo>
                  <a:pt x="952" y="182"/>
                  <a:pt x="1035" y="30"/>
                  <a:pt x="1088" y="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36"/>
          <p:cNvSpPr/>
          <p:nvPr/>
        </p:nvSpPr>
        <p:spPr>
          <a:xfrm flipH="1">
            <a:off x="2858400" y="5011560"/>
            <a:ext cx="1763640" cy="289080"/>
          </a:xfrm>
          <a:custGeom>
            <a:avLst/>
            <a:gdLst/>
            <a:ahLst/>
            <a:rect l="l" t="t" r="r" b="b"/>
            <a:pathLst>
              <a:path w="1088" h="182">
                <a:moveTo>
                  <a:pt x="0" y="0"/>
                </a:moveTo>
                <a:cubicBezTo>
                  <a:pt x="295" y="91"/>
                  <a:pt x="590" y="182"/>
                  <a:pt x="771" y="182"/>
                </a:cubicBezTo>
                <a:cubicBezTo>
                  <a:pt x="952" y="182"/>
                  <a:pt x="1035" y="30"/>
                  <a:pt x="1088" y="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37"/>
          <p:cNvSpPr/>
          <p:nvPr/>
        </p:nvSpPr>
        <p:spPr>
          <a:xfrm>
            <a:off x="1319040" y="1268280"/>
            <a:ext cx="804960" cy="1871640"/>
          </a:xfrm>
          <a:custGeom>
            <a:avLst/>
            <a:gdLst/>
            <a:ahLst/>
            <a:rect l="l" t="t" r="r" b="b"/>
            <a:pathLst>
              <a:path w="507" h="1179">
                <a:moveTo>
                  <a:pt x="507" y="0"/>
                </a:moveTo>
                <a:cubicBezTo>
                  <a:pt x="306" y="219"/>
                  <a:pt x="106" y="439"/>
                  <a:pt x="53" y="635"/>
                </a:cubicBezTo>
                <a:cubicBezTo>
                  <a:pt x="0" y="831"/>
                  <a:pt x="166" y="1088"/>
                  <a:pt x="189" y="1179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8"/>
          <p:cNvSpPr/>
          <p:nvPr/>
        </p:nvSpPr>
        <p:spPr>
          <a:xfrm flipV="1" rot="1784400">
            <a:off x="822240" y="3067920"/>
            <a:ext cx="804600" cy="1871640"/>
          </a:xfrm>
          <a:custGeom>
            <a:avLst/>
            <a:gdLst/>
            <a:ahLst/>
            <a:rect l="l" t="t" r="r" b="b"/>
            <a:pathLst>
              <a:path w="507" h="1179">
                <a:moveTo>
                  <a:pt x="507" y="0"/>
                </a:moveTo>
                <a:cubicBezTo>
                  <a:pt x="306" y="219"/>
                  <a:pt x="106" y="439"/>
                  <a:pt x="53" y="635"/>
                </a:cubicBezTo>
                <a:cubicBezTo>
                  <a:pt x="0" y="831"/>
                  <a:pt x="166" y="1088"/>
                  <a:pt x="189" y="1179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40"/>
          <p:cNvSpPr/>
          <p:nvPr/>
        </p:nvSpPr>
        <p:spPr>
          <a:xfrm rot="21540000">
            <a:off x="2124000" y="1268280"/>
            <a:ext cx="1284480" cy="1871640"/>
          </a:xfrm>
          <a:custGeom>
            <a:avLst/>
            <a:gdLst/>
            <a:ahLst/>
            <a:rect l="l" t="t" r="r" b="b"/>
            <a:pathLst>
              <a:path w="809" h="1179">
                <a:moveTo>
                  <a:pt x="0" y="0"/>
                </a:moveTo>
                <a:cubicBezTo>
                  <a:pt x="275" y="151"/>
                  <a:pt x="551" y="302"/>
                  <a:pt x="680" y="499"/>
                </a:cubicBezTo>
                <a:cubicBezTo>
                  <a:pt x="809" y="696"/>
                  <a:pt x="756" y="1066"/>
                  <a:pt x="771" y="1179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41"/>
          <p:cNvSpPr/>
          <p:nvPr/>
        </p:nvSpPr>
        <p:spPr>
          <a:xfrm flipH="1" rot="6759000">
            <a:off x="3352680" y="3063240"/>
            <a:ext cx="1284120" cy="1871640"/>
          </a:xfrm>
          <a:custGeom>
            <a:avLst/>
            <a:gdLst/>
            <a:ahLst/>
            <a:rect l="l" t="t" r="r" b="b"/>
            <a:pathLst>
              <a:path w="809" h="1179">
                <a:moveTo>
                  <a:pt x="0" y="0"/>
                </a:moveTo>
                <a:cubicBezTo>
                  <a:pt x="275" y="151"/>
                  <a:pt x="551" y="302"/>
                  <a:pt x="680" y="499"/>
                </a:cubicBezTo>
                <a:cubicBezTo>
                  <a:pt x="809" y="696"/>
                  <a:pt x="756" y="1066"/>
                  <a:pt x="771" y="1179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2"/>
          <p:cNvSpPr/>
          <p:nvPr/>
        </p:nvSpPr>
        <p:spPr>
          <a:xfrm rot="15706800">
            <a:off x="1060560" y="49388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43"/>
          <p:cNvSpPr/>
          <p:nvPr/>
        </p:nvSpPr>
        <p:spPr>
          <a:xfrm rot="15706800">
            <a:off x="2068560" y="119484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44"/>
          <p:cNvSpPr/>
          <p:nvPr/>
        </p:nvSpPr>
        <p:spPr>
          <a:xfrm rot="15706800">
            <a:off x="4583160" y="49467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5"/>
          <p:cNvSpPr/>
          <p:nvPr/>
        </p:nvSpPr>
        <p:spPr>
          <a:xfrm rot="15706800">
            <a:off x="1563480" y="3103560"/>
            <a:ext cx="108000" cy="107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6"/>
          <p:cNvSpPr/>
          <p:nvPr/>
        </p:nvSpPr>
        <p:spPr>
          <a:xfrm rot="15706800">
            <a:off x="3313080" y="3101400"/>
            <a:ext cx="107640" cy="10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47"/>
          <p:cNvSpPr/>
          <p:nvPr/>
        </p:nvSpPr>
        <p:spPr>
          <a:xfrm rot="15706800">
            <a:off x="2819520" y="4964040"/>
            <a:ext cx="108000" cy="10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48"/>
          <p:cNvSpPr/>
          <p:nvPr/>
        </p:nvSpPr>
        <p:spPr>
          <a:xfrm>
            <a:off x="2819520" y="34401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9"/>
          <p:cNvSpPr/>
          <p:nvPr/>
        </p:nvSpPr>
        <p:spPr>
          <a:xfrm>
            <a:off x="2700360" y="5011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50"/>
          <p:cNvGrpSpPr/>
          <p:nvPr/>
        </p:nvGrpSpPr>
        <p:grpSpPr>
          <a:xfrm>
            <a:off x="1306800" y="3955320"/>
            <a:ext cx="160200" cy="150840"/>
            <a:chOff x="1306800" y="3955320"/>
            <a:chExt cx="160200" cy="150840"/>
          </a:xfrm>
        </p:grpSpPr>
        <p:sp>
          <p:nvSpPr>
            <p:cNvPr id="825" name="Line 51"/>
            <p:cNvSpPr/>
            <p:nvPr/>
          </p:nvSpPr>
          <p:spPr>
            <a:xfrm flipH="1" flipV="1">
              <a:off x="1343160" y="3955320"/>
              <a:ext cx="123840" cy="10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2"/>
            <p:cNvSpPr/>
            <p:nvPr/>
          </p:nvSpPr>
          <p:spPr>
            <a:xfrm flipH="1" flipV="1">
              <a:off x="1306800" y="3996720"/>
              <a:ext cx="123840" cy="10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Line 53"/>
          <p:cNvSpPr/>
          <p:nvPr/>
        </p:nvSpPr>
        <p:spPr>
          <a:xfrm flipH="1">
            <a:off x="2081880" y="4936320"/>
            <a:ext cx="154080" cy="151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54"/>
          <p:cNvGrpSpPr/>
          <p:nvPr/>
        </p:nvGrpSpPr>
        <p:grpSpPr>
          <a:xfrm>
            <a:off x="2564640" y="2031840"/>
            <a:ext cx="257400" cy="191520"/>
            <a:chOff x="2564640" y="2031840"/>
            <a:chExt cx="257400" cy="191520"/>
          </a:xfrm>
        </p:grpSpPr>
        <p:grpSp>
          <p:nvGrpSpPr>
            <p:cNvPr id="829" name="Group 55"/>
            <p:cNvGrpSpPr/>
            <p:nvPr/>
          </p:nvGrpSpPr>
          <p:grpSpPr>
            <a:xfrm>
              <a:off x="2564640" y="2031840"/>
              <a:ext cx="226440" cy="118080"/>
              <a:chOff x="2564640" y="2031840"/>
              <a:chExt cx="226440" cy="118080"/>
            </a:xfrm>
          </p:grpSpPr>
          <p:sp>
            <p:nvSpPr>
              <p:cNvPr id="830" name="Line 56"/>
              <p:cNvSpPr/>
              <p:nvPr/>
            </p:nvSpPr>
            <p:spPr>
              <a:xfrm flipH="1">
                <a:off x="2564640" y="2031840"/>
                <a:ext cx="210600" cy="48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57"/>
              <p:cNvSpPr/>
              <p:nvPr/>
            </p:nvSpPr>
            <p:spPr>
              <a:xfrm flipH="1">
                <a:off x="2580480" y="2100960"/>
                <a:ext cx="210600" cy="48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Line 58"/>
            <p:cNvSpPr/>
            <p:nvPr/>
          </p:nvSpPr>
          <p:spPr>
            <a:xfrm flipH="1">
              <a:off x="2612160" y="2174760"/>
              <a:ext cx="209880" cy="4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Line 59"/>
          <p:cNvSpPr/>
          <p:nvPr/>
        </p:nvSpPr>
        <p:spPr>
          <a:xfrm flipH="1">
            <a:off x="3666240" y="4936320"/>
            <a:ext cx="154080" cy="151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60"/>
          <p:cNvGrpSpPr/>
          <p:nvPr/>
        </p:nvGrpSpPr>
        <p:grpSpPr>
          <a:xfrm>
            <a:off x="1771920" y="2228400"/>
            <a:ext cx="159840" cy="150480"/>
            <a:chOff x="1771920" y="2228400"/>
            <a:chExt cx="159840" cy="150480"/>
          </a:xfrm>
        </p:grpSpPr>
        <p:sp>
          <p:nvSpPr>
            <p:cNvPr id="835" name="Line 61"/>
            <p:cNvSpPr/>
            <p:nvPr/>
          </p:nvSpPr>
          <p:spPr>
            <a:xfrm flipH="1" flipV="1">
              <a:off x="1807920" y="2228400"/>
              <a:ext cx="123840" cy="10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62"/>
            <p:cNvSpPr/>
            <p:nvPr/>
          </p:nvSpPr>
          <p:spPr>
            <a:xfrm flipH="1" flipV="1">
              <a:off x="1771920" y="2269440"/>
              <a:ext cx="123840" cy="10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Text Box 63"/>
          <p:cNvSpPr/>
          <p:nvPr/>
        </p:nvSpPr>
        <p:spPr>
          <a:xfrm>
            <a:off x="1044720" y="2852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64"/>
          <p:cNvSpPr/>
          <p:nvPr/>
        </p:nvSpPr>
        <p:spPr>
          <a:xfrm>
            <a:off x="3348000" y="2773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70"/>
          <p:cNvGrpSpPr/>
          <p:nvPr/>
        </p:nvGrpSpPr>
        <p:grpSpPr>
          <a:xfrm>
            <a:off x="3933000" y="4047840"/>
            <a:ext cx="257400" cy="191880"/>
            <a:chOff x="3933000" y="4047840"/>
            <a:chExt cx="257400" cy="191880"/>
          </a:xfrm>
        </p:grpSpPr>
        <p:grpSp>
          <p:nvGrpSpPr>
            <p:cNvPr id="840" name="Group 71"/>
            <p:cNvGrpSpPr/>
            <p:nvPr/>
          </p:nvGrpSpPr>
          <p:grpSpPr>
            <a:xfrm>
              <a:off x="3933000" y="4047840"/>
              <a:ext cx="226080" cy="118440"/>
              <a:chOff x="3933000" y="4047840"/>
              <a:chExt cx="226080" cy="118440"/>
            </a:xfrm>
          </p:grpSpPr>
          <p:sp>
            <p:nvSpPr>
              <p:cNvPr id="841" name="Line 72"/>
              <p:cNvSpPr/>
              <p:nvPr/>
            </p:nvSpPr>
            <p:spPr>
              <a:xfrm flipH="1">
                <a:off x="3933000" y="4047840"/>
                <a:ext cx="210240" cy="48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73"/>
              <p:cNvSpPr/>
              <p:nvPr/>
            </p:nvSpPr>
            <p:spPr>
              <a:xfrm flipH="1">
                <a:off x="3948840" y="4117320"/>
                <a:ext cx="210240" cy="48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Line 74"/>
            <p:cNvSpPr/>
            <p:nvPr/>
          </p:nvSpPr>
          <p:spPr>
            <a:xfrm flipH="1">
              <a:off x="3980520" y="4191120"/>
              <a:ext cx="209880" cy="4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77"/>
          <p:cNvSpPr/>
          <p:nvPr/>
        </p:nvSpPr>
        <p:spPr>
          <a:xfrm>
            <a:off x="324000" y="5805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снования серединных перпендикуляров к сторонам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78"/>
          <p:cNvSpPr/>
          <p:nvPr/>
        </p:nvSpPr>
        <p:spPr>
          <a:xfrm>
            <a:off x="324000" y="6302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центр окружности, описанной около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1"/>
          <p:cNvSpPr/>
          <p:nvPr/>
        </p:nvSpPr>
        <p:spPr>
          <a:xfrm flipV="1">
            <a:off x="5580000" y="2565360"/>
            <a:ext cx="2525760" cy="9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82"/>
          <p:cNvSpPr/>
          <p:nvPr/>
        </p:nvSpPr>
        <p:spPr>
          <a:xfrm flipV="1">
            <a:off x="5578560" y="2082600"/>
            <a:ext cx="148104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3"/>
          <p:cNvSpPr/>
          <p:nvPr/>
        </p:nvSpPr>
        <p:spPr>
          <a:xfrm>
            <a:off x="521964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4"/>
          <p:cNvSpPr/>
          <p:nvPr/>
        </p:nvSpPr>
        <p:spPr>
          <a:xfrm>
            <a:off x="8210520" y="2417760"/>
            <a:ext cx="2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85"/>
          <p:cNvSpPr/>
          <p:nvPr/>
        </p:nvSpPr>
        <p:spPr>
          <a:xfrm>
            <a:off x="6902280" y="1690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6"/>
          <p:cNvSpPr/>
          <p:nvPr/>
        </p:nvSpPr>
        <p:spPr>
          <a:xfrm>
            <a:off x="6883560" y="2997360"/>
            <a:ext cx="544320" cy="14396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7"/>
          <p:cNvSpPr/>
          <p:nvPr/>
        </p:nvSpPr>
        <p:spPr>
          <a:xfrm flipH="1">
            <a:off x="6648120" y="2349360"/>
            <a:ext cx="947880" cy="2159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9"/>
          <p:cNvSpPr/>
          <p:nvPr/>
        </p:nvSpPr>
        <p:spPr>
          <a:xfrm>
            <a:off x="7524720" y="1844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90"/>
          <p:cNvSpPr/>
          <p:nvPr/>
        </p:nvSpPr>
        <p:spPr>
          <a:xfrm>
            <a:off x="5560920" y="2081160"/>
            <a:ext cx="2898720" cy="29037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94"/>
          <p:cNvGrpSpPr/>
          <p:nvPr/>
        </p:nvGrpSpPr>
        <p:grpSpPr>
          <a:xfrm>
            <a:off x="7522560" y="2711880"/>
            <a:ext cx="47160" cy="132480"/>
            <a:chOff x="7522560" y="2711880"/>
            <a:chExt cx="47160" cy="132480"/>
          </a:xfrm>
        </p:grpSpPr>
        <p:sp>
          <p:nvSpPr>
            <p:cNvPr id="856" name="Line 95"/>
            <p:cNvSpPr/>
            <p:nvPr/>
          </p:nvSpPr>
          <p:spPr>
            <a:xfrm>
              <a:off x="7522560" y="2713320"/>
              <a:ext cx="3600" cy="13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96"/>
            <p:cNvSpPr/>
            <p:nvPr/>
          </p:nvSpPr>
          <p:spPr>
            <a:xfrm>
              <a:off x="7566120" y="2711880"/>
              <a:ext cx="3600" cy="13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Text Box 98"/>
          <p:cNvSpPr/>
          <p:nvPr/>
        </p:nvSpPr>
        <p:spPr>
          <a:xfrm>
            <a:off x="6659640" y="26370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00"/>
          <p:cNvSpPr/>
          <p:nvPr/>
        </p:nvSpPr>
        <p:spPr>
          <a:xfrm rot="15706800">
            <a:off x="5508360" y="3499920"/>
            <a:ext cx="874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01"/>
          <p:cNvSpPr/>
          <p:nvPr/>
        </p:nvSpPr>
        <p:spPr>
          <a:xfrm>
            <a:off x="6523560" y="2458080"/>
            <a:ext cx="160920" cy="6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2"/>
          <p:cNvSpPr/>
          <p:nvPr/>
        </p:nvSpPr>
        <p:spPr>
          <a:xfrm>
            <a:off x="5949000" y="3026520"/>
            <a:ext cx="19872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04"/>
          <p:cNvSpPr/>
          <p:nvPr/>
        </p:nvSpPr>
        <p:spPr>
          <a:xfrm flipH="1" flipV="1">
            <a:off x="7016400" y="2082600"/>
            <a:ext cx="1089000" cy="47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05"/>
          <p:cNvSpPr/>
          <p:nvPr/>
        </p:nvSpPr>
        <p:spPr>
          <a:xfrm>
            <a:off x="6854760" y="2979720"/>
            <a:ext cx="87480" cy="874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06"/>
          <p:cNvSpPr/>
          <p:nvPr/>
        </p:nvSpPr>
        <p:spPr>
          <a:xfrm flipH="1" flipV="1">
            <a:off x="6351120" y="2769840"/>
            <a:ext cx="1251000" cy="1306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8"/>
          <p:cNvSpPr/>
          <p:nvPr/>
        </p:nvSpPr>
        <p:spPr>
          <a:xfrm>
            <a:off x="6012000" y="242100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110"/>
          <p:cNvGrpSpPr/>
          <p:nvPr/>
        </p:nvGrpSpPr>
        <p:grpSpPr>
          <a:xfrm>
            <a:off x="7210800" y="2162520"/>
            <a:ext cx="163800" cy="150120"/>
            <a:chOff x="7210800" y="2162520"/>
            <a:chExt cx="163800" cy="150120"/>
          </a:xfrm>
        </p:grpSpPr>
        <p:grpSp>
          <p:nvGrpSpPr>
            <p:cNvPr id="867" name="Group 111"/>
            <p:cNvGrpSpPr/>
            <p:nvPr/>
          </p:nvGrpSpPr>
          <p:grpSpPr>
            <a:xfrm>
              <a:off x="7210800" y="2162520"/>
              <a:ext cx="126000" cy="119880"/>
              <a:chOff x="7210800" y="2162520"/>
              <a:chExt cx="126000" cy="119880"/>
            </a:xfrm>
          </p:grpSpPr>
          <p:sp>
            <p:nvSpPr>
              <p:cNvPr id="868" name="Line 112"/>
              <p:cNvSpPr/>
              <p:nvPr/>
            </p:nvSpPr>
            <p:spPr>
              <a:xfrm flipH="1">
                <a:off x="7210800" y="2162520"/>
                <a:ext cx="97200" cy="8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13"/>
              <p:cNvSpPr/>
              <p:nvPr/>
            </p:nvSpPr>
            <p:spPr>
              <a:xfrm flipH="1">
                <a:off x="7239600" y="2194560"/>
                <a:ext cx="97200" cy="8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Line 114"/>
            <p:cNvSpPr/>
            <p:nvPr/>
          </p:nvSpPr>
          <p:spPr>
            <a:xfrm flipH="1">
              <a:off x="7277400" y="2224800"/>
              <a:ext cx="97200" cy="8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115"/>
          <p:cNvGrpSpPr/>
          <p:nvPr/>
        </p:nvGrpSpPr>
        <p:grpSpPr>
          <a:xfrm>
            <a:off x="7731360" y="2376720"/>
            <a:ext cx="163800" cy="150120"/>
            <a:chOff x="7731360" y="2376720"/>
            <a:chExt cx="163800" cy="150120"/>
          </a:xfrm>
        </p:grpSpPr>
        <p:grpSp>
          <p:nvGrpSpPr>
            <p:cNvPr id="872" name="Group 116"/>
            <p:cNvGrpSpPr/>
            <p:nvPr/>
          </p:nvGrpSpPr>
          <p:grpSpPr>
            <a:xfrm>
              <a:off x="7731360" y="2376720"/>
              <a:ext cx="126000" cy="119880"/>
              <a:chOff x="7731360" y="2376720"/>
              <a:chExt cx="126000" cy="119880"/>
            </a:xfrm>
          </p:grpSpPr>
          <p:sp>
            <p:nvSpPr>
              <p:cNvPr id="873" name="Line 117"/>
              <p:cNvSpPr/>
              <p:nvPr/>
            </p:nvSpPr>
            <p:spPr>
              <a:xfrm flipH="1">
                <a:off x="7731360" y="2376720"/>
                <a:ext cx="97200" cy="8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118"/>
              <p:cNvSpPr/>
              <p:nvPr/>
            </p:nvSpPr>
            <p:spPr>
              <a:xfrm flipH="1">
                <a:off x="7760160" y="2408760"/>
                <a:ext cx="97200" cy="8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Line 119"/>
            <p:cNvSpPr/>
            <p:nvPr/>
          </p:nvSpPr>
          <p:spPr>
            <a:xfrm flipH="1">
              <a:off x="7797960" y="2439000"/>
              <a:ext cx="97200" cy="8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Oval 120"/>
          <p:cNvSpPr/>
          <p:nvPr/>
        </p:nvSpPr>
        <p:spPr>
          <a:xfrm>
            <a:off x="6315120" y="2730600"/>
            <a:ext cx="85680" cy="856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22"/>
          <p:cNvSpPr/>
          <p:nvPr/>
        </p:nvSpPr>
        <p:spPr>
          <a:xfrm>
            <a:off x="7034040" y="3483000"/>
            <a:ext cx="907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28"/>
          <p:cNvGrpSpPr/>
          <p:nvPr/>
        </p:nvGrpSpPr>
        <p:grpSpPr>
          <a:xfrm>
            <a:off x="6514560" y="3076920"/>
            <a:ext cx="47160" cy="132480"/>
            <a:chOff x="6514560" y="3076920"/>
            <a:chExt cx="47160" cy="132480"/>
          </a:xfrm>
        </p:grpSpPr>
        <p:sp>
          <p:nvSpPr>
            <p:cNvPr id="879" name="Line 129"/>
            <p:cNvSpPr/>
            <p:nvPr/>
          </p:nvSpPr>
          <p:spPr>
            <a:xfrm>
              <a:off x="6514560" y="3078360"/>
              <a:ext cx="3600" cy="13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130"/>
            <p:cNvSpPr/>
            <p:nvPr/>
          </p:nvSpPr>
          <p:spPr>
            <a:xfrm>
              <a:off x="6558120" y="3076920"/>
              <a:ext cx="3600" cy="13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Oval 121"/>
          <p:cNvSpPr/>
          <p:nvPr/>
        </p:nvSpPr>
        <p:spPr>
          <a:xfrm>
            <a:off x="7550280" y="2313000"/>
            <a:ext cx="87120" cy="874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3"/>
          <p:cNvSpPr/>
          <p:nvPr/>
        </p:nvSpPr>
        <p:spPr>
          <a:xfrm>
            <a:off x="7164360" y="32846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07"/>
          <p:cNvSpPr/>
          <p:nvPr/>
        </p:nvSpPr>
        <p:spPr>
          <a:xfrm rot="15706800">
            <a:off x="8045280" y="25174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123"/>
          <p:cNvSpPr/>
          <p:nvPr/>
        </p:nvSpPr>
        <p:spPr>
          <a:xfrm>
            <a:off x="7002360" y="2043000"/>
            <a:ext cx="874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2"/>
          <p:cNvSpPr/>
          <p:nvPr/>
        </p:nvSpPr>
        <p:spPr>
          <a:xfrm>
            <a:off x="179280" y="1224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Comic Sans MS"/>
              </a:rPr>
              <a:t>Центр описанной окруж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4"/>
          <p:cNvSpPr/>
          <p:nvPr/>
        </p:nvSpPr>
        <p:spPr>
          <a:xfrm>
            <a:off x="5292720" y="1357200"/>
            <a:ext cx="3564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</a:rPr>
              <a:t>Окружности, описанные около треугольников, вершинами которых являются середины сторон треугольника и вершины треугольника пересекаются в одной точке, которая совпадает с точкой  пересечения серединных перпендикуляров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5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3243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680000" y="1473120"/>
            <a:ext cx="446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Monotype Corsiva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</a:rPr>
              <a:t>Точка Жергона — точка пересечения отрезков, соединяющих вершины треугольника с точками касания вписанной окружностью противоположных сторон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89" name="Заголовок 2" descr=""/>
          <p:cNvPicPr/>
          <p:nvPr/>
        </p:nvPicPr>
        <p:blipFill>
          <a:blip r:embed="rId2"/>
          <a:stretch/>
        </p:blipFill>
        <p:spPr>
          <a:xfrm>
            <a:off x="469800" y="328680"/>
            <a:ext cx="8229600" cy="1251000"/>
          </a:xfrm>
          <a:prstGeom prst="rect">
            <a:avLst/>
          </a:prstGeom>
          <a:ln w="0">
            <a:noFill/>
          </a:ln>
        </p:spPr>
      </p:pic>
      <p:pic>
        <p:nvPicPr>
          <p:cNvPr id="890" name="Рисунок 3" descr=""/>
          <p:cNvPicPr/>
          <p:nvPr/>
        </p:nvPicPr>
        <p:blipFill>
          <a:blip r:embed="rId3"/>
          <a:stretch/>
        </p:blipFill>
        <p:spPr>
          <a:xfrm>
            <a:off x="61920" y="1473120"/>
            <a:ext cx="4870440" cy="42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000" spc="-1" strike="noStrike">
                <a:solidFill>
                  <a:srgbClr val="464646"/>
                </a:solidFill>
                <a:latin typeface="Bookman Old Style"/>
              </a:rPr>
              <a:t>Точка Нагеля – точка пересечения отрезков, соединяющих вершины треугольника с точками касания противоположных сторон с соответствующими вневписанными окружностями</a:t>
            </a:r>
            <a:r>
              <a:rPr b="0" lang="ru-RU" sz="2700" spc="-1" strike="noStrike">
                <a:solidFill>
                  <a:srgbClr val="464646"/>
                </a:solidFill>
                <a:latin typeface="Monotype Corsiv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2" name="Заголовок 2" descr=""/>
          <p:cNvPicPr/>
          <p:nvPr/>
        </p:nvPicPr>
        <p:blipFill>
          <a:blip r:embed="rId2"/>
          <a:stretch/>
        </p:blipFill>
        <p:spPr>
          <a:xfrm>
            <a:off x="426960" y="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893" name="Рисунок 3" descr="C:\Users\User\Desktop\рис теор\image209.png"/>
          <p:cNvPicPr/>
          <p:nvPr/>
        </p:nvPicPr>
        <p:blipFill>
          <a:blip r:embed="rId3"/>
          <a:stretch/>
        </p:blipFill>
        <p:spPr>
          <a:xfrm>
            <a:off x="158760" y="270504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894" name="TextBox 4"/>
          <p:cNvSpPr/>
          <p:nvPr/>
        </p:nvSpPr>
        <p:spPr>
          <a:xfrm>
            <a:off x="4587840" y="2698920"/>
            <a:ext cx="4376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Monotype Corsiva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464646"/>
                </a:solidFill>
                <a:latin typeface="Bookman Old Style"/>
                <a:ea typeface="Arial"/>
              </a:rPr>
              <a:t>Точка Нагеля лежит на одной прямой с инцентром и центроидом, при этом центроид делит отрезок между точкой Нагеля и инцентром в отношении 2 :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AutoShape 2"/>
          <p:cNvSpPr/>
          <p:nvPr/>
        </p:nvSpPr>
        <p:spPr>
          <a:xfrm rot="7260000">
            <a:off x="2002680" y="1630080"/>
            <a:ext cx="1295640" cy="1152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3"/>
          <p:cNvSpPr/>
          <p:nvPr/>
        </p:nvSpPr>
        <p:spPr>
          <a:xfrm rot="7260000">
            <a:off x="1739160" y="1347840"/>
            <a:ext cx="1514520" cy="1517400"/>
          </a:xfrm>
          <a:prstGeom prst="ellipse">
            <a:avLst/>
          </a:prstGeom>
          <a:noFill/>
          <a:ln w="255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4"/>
          <p:cNvSpPr/>
          <p:nvPr/>
        </p:nvSpPr>
        <p:spPr>
          <a:xfrm>
            <a:off x="646200" y="2484360"/>
            <a:ext cx="2341440" cy="19735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5"/>
          <p:cNvSpPr/>
          <p:nvPr/>
        </p:nvSpPr>
        <p:spPr>
          <a:xfrm>
            <a:off x="442800" y="2484360"/>
            <a:ext cx="2741760" cy="2600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6"/>
          <p:cNvSpPr/>
          <p:nvPr/>
        </p:nvSpPr>
        <p:spPr>
          <a:xfrm rot="20025600">
            <a:off x="2504880" y="2415960"/>
            <a:ext cx="2020680" cy="16873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7"/>
          <p:cNvSpPr/>
          <p:nvPr/>
        </p:nvSpPr>
        <p:spPr>
          <a:xfrm rot="20025600">
            <a:off x="2451240" y="2390400"/>
            <a:ext cx="2363760" cy="22208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8"/>
          <p:cNvSpPr/>
          <p:nvPr/>
        </p:nvSpPr>
        <p:spPr>
          <a:xfrm flipH="1" flipV="1">
            <a:off x="1828080" y="2498040"/>
            <a:ext cx="1149120" cy="193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9"/>
          <p:cNvSpPr/>
          <p:nvPr/>
        </p:nvSpPr>
        <p:spPr>
          <a:xfrm flipV="1">
            <a:off x="2994120" y="2507760"/>
            <a:ext cx="142920" cy="193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0"/>
          <p:cNvSpPr/>
          <p:nvPr/>
        </p:nvSpPr>
        <p:spPr>
          <a:xfrm>
            <a:off x="1812600" y="2467440"/>
            <a:ext cx="1324800" cy="26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4792680" y="3430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1436760" y="229536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79280" y="44226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2268360" y="9810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5"/>
          <p:cNvSpPr/>
          <p:nvPr/>
        </p:nvSpPr>
        <p:spPr>
          <a:xfrm>
            <a:off x="3279600" y="210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6"/>
          <p:cNvSpPr/>
          <p:nvPr/>
        </p:nvSpPr>
        <p:spPr>
          <a:xfrm>
            <a:off x="2901960" y="456408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7"/>
          <p:cNvGrpSpPr/>
          <p:nvPr/>
        </p:nvGrpSpPr>
        <p:grpSpPr>
          <a:xfrm>
            <a:off x="3818880" y="2914560"/>
            <a:ext cx="133560" cy="133560"/>
            <a:chOff x="3818880" y="2914560"/>
            <a:chExt cx="133560" cy="133560"/>
          </a:xfrm>
        </p:grpSpPr>
        <p:sp>
          <p:nvSpPr>
            <p:cNvPr id="911" name="Line 18"/>
            <p:cNvSpPr/>
            <p:nvPr/>
          </p:nvSpPr>
          <p:spPr>
            <a:xfrm flipH="1">
              <a:off x="3818880" y="2914560"/>
              <a:ext cx="9972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9"/>
            <p:cNvSpPr/>
            <p:nvPr/>
          </p:nvSpPr>
          <p:spPr>
            <a:xfrm flipV="1">
              <a:off x="3852720" y="2948400"/>
              <a:ext cx="9972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20"/>
          <p:cNvGrpSpPr/>
          <p:nvPr/>
        </p:nvGrpSpPr>
        <p:grpSpPr>
          <a:xfrm>
            <a:off x="3864600" y="3924720"/>
            <a:ext cx="118080" cy="144720"/>
            <a:chOff x="3864600" y="3924720"/>
            <a:chExt cx="118080" cy="144720"/>
          </a:xfrm>
        </p:grpSpPr>
        <p:sp>
          <p:nvSpPr>
            <p:cNvPr id="914" name="Line 21"/>
            <p:cNvSpPr/>
            <p:nvPr/>
          </p:nvSpPr>
          <p:spPr>
            <a:xfrm flipH="1" flipV="1">
              <a:off x="3903840" y="3924720"/>
              <a:ext cx="7884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22"/>
            <p:cNvSpPr/>
            <p:nvPr/>
          </p:nvSpPr>
          <p:spPr>
            <a:xfrm flipH="1" flipV="1">
              <a:off x="3864600" y="3950640"/>
              <a:ext cx="7884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23"/>
          <p:cNvSpPr/>
          <p:nvPr/>
        </p:nvSpPr>
        <p:spPr>
          <a:xfrm>
            <a:off x="1104840" y="3478320"/>
            <a:ext cx="19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4"/>
          <p:cNvSpPr/>
          <p:nvPr/>
        </p:nvSpPr>
        <p:spPr>
          <a:xfrm>
            <a:off x="2192400" y="4375080"/>
            <a:ext cx="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25"/>
          <p:cNvGrpSpPr/>
          <p:nvPr/>
        </p:nvGrpSpPr>
        <p:grpSpPr>
          <a:xfrm>
            <a:off x="2712960" y="1794960"/>
            <a:ext cx="177480" cy="143640"/>
            <a:chOff x="2712960" y="1794960"/>
            <a:chExt cx="177480" cy="143640"/>
          </a:xfrm>
        </p:grpSpPr>
        <p:grpSp>
          <p:nvGrpSpPr>
            <p:cNvPr id="919" name="Group 26"/>
            <p:cNvGrpSpPr/>
            <p:nvPr/>
          </p:nvGrpSpPr>
          <p:grpSpPr>
            <a:xfrm>
              <a:off x="2712960" y="1794960"/>
              <a:ext cx="148320" cy="100440"/>
              <a:chOff x="2712960" y="1794960"/>
              <a:chExt cx="148320" cy="100440"/>
            </a:xfrm>
          </p:grpSpPr>
          <p:sp>
            <p:nvSpPr>
              <p:cNvPr id="920" name="Line 27"/>
              <p:cNvSpPr/>
              <p:nvPr/>
            </p:nvSpPr>
            <p:spPr>
              <a:xfrm flipH="1">
                <a:off x="2712960" y="1794960"/>
                <a:ext cx="129600" cy="57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28"/>
              <p:cNvSpPr/>
              <p:nvPr/>
            </p:nvSpPr>
            <p:spPr>
              <a:xfrm flipH="1">
                <a:off x="2732040" y="1837440"/>
                <a:ext cx="129240" cy="57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Line 29"/>
            <p:cNvSpPr/>
            <p:nvPr/>
          </p:nvSpPr>
          <p:spPr>
            <a:xfrm flipH="1">
              <a:off x="2761200" y="1881000"/>
              <a:ext cx="129240" cy="5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30"/>
          <p:cNvGrpSpPr/>
          <p:nvPr/>
        </p:nvGrpSpPr>
        <p:grpSpPr>
          <a:xfrm>
            <a:off x="2082240" y="1805400"/>
            <a:ext cx="163800" cy="167040"/>
            <a:chOff x="2082240" y="1805400"/>
            <a:chExt cx="163800" cy="167040"/>
          </a:xfrm>
        </p:grpSpPr>
        <p:grpSp>
          <p:nvGrpSpPr>
            <p:cNvPr id="924" name="Group 31"/>
            <p:cNvGrpSpPr/>
            <p:nvPr/>
          </p:nvGrpSpPr>
          <p:grpSpPr>
            <a:xfrm>
              <a:off x="2104920" y="1805400"/>
              <a:ext cx="141120" cy="119880"/>
              <a:chOff x="2104920" y="1805400"/>
              <a:chExt cx="141120" cy="119880"/>
            </a:xfrm>
          </p:grpSpPr>
          <p:sp>
            <p:nvSpPr>
              <p:cNvPr id="925" name="Line 32"/>
              <p:cNvSpPr/>
              <p:nvPr/>
            </p:nvSpPr>
            <p:spPr>
              <a:xfrm flipH="1" flipV="1">
                <a:off x="2131920" y="1805400"/>
                <a:ext cx="11412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33"/>
              <p:cNvSpPr/>
              <p:nvPr/>
            </p:nvSpPr>
            <p:spPr>
              <a:xfrm flipH="1" flipV="1">
                <a:off x="2104920" y="1842840"/>
                <a:ext cx="11376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Line 34"/>
            <p:cNvSpPr/>
            <p:nvPr/>
          </p:nvSpPr>
          <p:spPr>
            <a:xfrm flipH="1" flipV="1">
              <a:off x="2082240" y="1890000"/>
              <a:ext cx="113760" cy="8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35"/>
          <p:cNvSpPr/>
          <p:nvPr/>
        </p:nvSpPr>
        <p:spPr>
          <a:xfrm>
            <a:off x="2333520" y="3524400"/>
            <a:ext cx="19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36"/>
          <p:cNvGrpSpPr/>
          <p:nvPr/>
        </p:nvGrpSpPr>
        <p:grpSpPr>
          <a:xfrm>
            <a:off x="2993040" y="3376440"/>
            <a:ext cx="145800" cy="62280"/>
            <a:chOff x="2993040" y="3376440"/>
            <a:chExt cx="145800" cy="62280"/>
          </a:xfrm>
        </p:grpSpPr>
        <p:sp>
          <p:nvSpPr>
            <p:cNvPr id="930" name="Line 37"/>
            <p:cNvSpPr/>
            <p:nvPr/>
          </p:nvSpPr>
          <p:spPr>
            <a:xfrm flipH="1">
              <a:off x="2993040" y="3376440"/>
              <a:ext cx="140760" cy="1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38"/>
            <p:cNvSpPr/>
            <p:nvPr/>
          </p:nvSpPr>
          <p:spPr>
            <a:xfrm flipH="1">
              <a:off x="2998440" y="3422880"/>
              <a:ext cx="1404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39"/>
          <p:cNvGrpSpPr/>
          <p:nvPr/>
        </p:nvGrpSpPr>
        <p:grpSpPr>
          <a:xfrm>
            <a:off x="2467440" y="2404440"/>
            <a:ext cx="104400" cy="147960"/>
            <a:chOff x="2467440" y="2404440"/>
            <a:chExt cx="104400" cy="147960"/>
          </a:xfrm>
        </p:grpSpPr>
        <p:grpSp>
          <p:nvGrpSpPr>
            <p:cNvPr id="933" name="Group 40"/>
            <p:cNvGrpSpPr/>
            <p:nvPr/>
          </p:nvGrpSpPr>
          <p:grpSpPr>
            <a:xfrm>
              <a:off x="2519640" y="2404440"/>
              <a:ext cx="52200" cy="143280"/>
              <a:chOff x="2519640" y="2404440"/>
              <a:chExt cx="52200" cy="143280"/>
            </a:xfrm>
          </p:grpSpPr>
          <p:sp>
            <p:nvSpPr>
              <p:cNvPr id="934" name="Line 41"/>
              <p:cNvSpPr/>
              <p:nvPr/>
            </p:nvSpPr>
            <p:spPr>
              <a:xfrm flipV="1">
                <a:off x="2567160" y="2405880"/>
                <a:ext cx="4680" cy="141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42"/>
              <p:cNvSpPr/>
              <p:nvPr/>
            </p:nvSpPr>
            <p:spPr>
              <a:xfrm flipV="1">
                <a:off x="2519640" y="2404440"/>
                <a:ext cx="4680" cy="141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Line 43"/>
            <p:cNvSpPr/>
            <p:nvPr/>
          </p:nvSpPr>
          <p:spPr>
            <a:xfrm flipV="1">
              <a:off x="2467440" y="2411280"/>
              <a:ext cx="4680" cy="14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 Box 44"/>
          <p:cNvSpPr/>
          <p:nvPr/>
        </p:nvSpPr>
        <p:spPr>
          <a:xfrm>
            <a:off x="25131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47"/>
          <p:cNvSpPr/>
          <p:nvPr/>
        </p:nvSpPr>
        <p:spPr>
          <a:xfrm>
            <a:off x="1781280" y="2438280"/>
            <a:ext cx="95040" cy="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48"/>
          <p:cNvSpPr/>
          <p:nvPr/>
        </p:nvSpPr>
        <p:spPr>
          <a:xfrm>
            <a:off x="3094200" y="2452680"/>
            <a:ext cx="95040" cy="93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49"/>
          <p:cNvSpPr/>
          <p:nvPr/>
        </p:nvSpPr>
        <p:spPr>
          <a:xfrm>
            <a:off x="2943360" y="4414680"/>
            <a:ext cx="95040" cy="9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rc 51"/>
          <p:cNvSpPr/>
          <p:nvPr/>
        </p:nvSpPr>
        <p:spPr>
          <a:xfrm flipH="1" rot="17460000">
            <a:off x="2471760" y="2708640"/>
            <a:ext cx="284400" cy="432000"/>
          </a:xfrm>
          <a:custGeom>
            <a:avLst/>
            <a:gdLst/>
            <a:ahLst/>
            <a:rect l="l" t="t" r="r" b="b"/>
            <a:pathLst>
              <a:path fill="none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</a:path>
              <a:path stroke="0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  <a:lnTo>
                  <a:pt x="353" y="21600"/>
                </a:lnTo>
                <a:lnTo>
                  <a:pt x="-1" y="2"/>
                </a:lnTo>
                <a:close/>
              </a:path>
            </a:pathLst>
          </a:custGeom>
          <a:solidFill>
            <a:srgbClr val="ff99cc">
              <a:alpha val="62000"/>
            </a:srgbClr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rc 52"/>
          <p:cNvSpPr/>
          <p:nvPr/>
        </p:nvSpPr>
        <p:spPr>
          <a:xfrm flipH="1" rot="10200000">
            <a:off x="2748600" y="2671200"/>
            <a:ext cx="284040" cy="431640"/>
          </a:xfrm>
          <a:custGeom>
            <a:avLst/>
            <a:gdLst/>
            <a:ahLst/>
            <a:rect l="l" t="t" r="r" b="b"/>
            <a:pathLst>
              <a:path fill="none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</a:path>
              <a:path stroke="0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  <a:lnTo>
                  <a:pt x="353" y="21600"/>
                </a:lnTo>
                <a:lnTo>
                  <a:pt x="-1" y="2"/>
                </a:lnTo>
                <a:close/>
              </a:path>
            </a:pathLst>
          </a:custGeom>
          <a:solidFill>
            <a:srgbClr val="0000ff">
              <a:alpha val="25000"/>
            </a:srgbClr>
          </a:solidFill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rc 53"/>
          <p:cNvSpPr/>
          <p:nvPr/>
        </p:nvSpPr>
        <p:spPr>
          <a:xfrm flipH="1" rot="2940000">
            <a:off x="2621160" y="2440440"/>
            <a:ext cx="237960" cy="439560"/>
          </a:xfrm>
          <a:custGeom>
            <a:avLst/>
            <a:gdLst/>
            <a:ahLst/>
            <a:rect l="l" t="t" r="r" b="b"/>
            <a:pathLst>
              <a:path fill="none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</a:path>
              <a:path stroke="0" w="21953" h="31390">
                <a:moveTo>
                  <a:pt x="-1" y="2"/>
                </a:moveTo>
                <a:cubicBezTo>
                  <a:pt x="117" y="0"/>
                  <a:pt x="235" y="-1"/>
                  <a:pt x="353" y="0"/>
                </a:cubicBezTo>
                <a:cubicBezTo>
                  <a:pt x="12282" y="0"/>
                  <a:pt x="21953" y="9670"/>
                  <a:pt x="21953" y="21600"/>
                </a:cubicBezTo>
                <a:cubicBezTo>
                  <a:pt x="21953" y="25002"/>
                  <a:pt x="21149" y="28356"/>
                  <a:pt x="19606" y="31389"/>
                </a:cubicBezTo>
                <a:lnTo>
                  <a:pt x="353" y="21600"/>
                </a:lnTo>
                <a:lnTo>
                  <a:pt x="-1" y="2"/>
                </a:lnTo>
                <a:close/>
              </a:path>
            </a:pathLst>
          </a:custGeom>
          <a:solidFill>
            <a:srgbClr val="00ff00">
              <a:alpha val="41000"/>
            </a:srgbClr>
          </a:solidFill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54"/>
          <p:cNvSpPr/>
          <p:nvPr/>
        </p:nvSpPr>
        <p:spPr>
          <a:xfrm>
            <a:off x="1836360" y="2481120"/>
            <a:ext cx="894600" cy="33984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55"/>
          <p:cNvSpPr/>
          <p:nvPr/>
        </p:nvSpPr>
        <p:spPr>
          <a:xfrm>
            <a:off x="2737080" y="2818440"/>
            <a:ext cx="244080" cy="162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6"/>
          <p:cNvSpPr/>
          <p:nvPr/>
        </p:nvSpPr>
        <p:spPr>
          <a:xfrm flipV="1">
            <a:off x="2730240" y="2505600"/>
            <a:ext cx="417960" cy="3340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57"/>
          <p:cNvSpPr/>
          <p:nvPr/>
        </p:nvSpPr>
        <p:spPr>
          <a:xfrm>
            <a:off x="2700360" y="279252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67"/>
          <p:cNvSpPr/>
          <p:nvPr/>
        </p:nvSpPr>
        <p:spPr>
          <a:xfrm>
            <a:off x="-468360" y="-27000"/>
            <a:ext cx="9288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64646"/>
                </a:solidFill>
                <a:latin typeface="Comic Sans MS"/>
              </a:rPr>
              <a:t>Точка Ферма-Торричелл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1"/>
          <p:cNvSpPr/>
          <p:nvPr/>
        </p:nvSpPr>
        <p:spPr>
          <a:xfrm>
            <a:off x="3983040" y="1163520"/>
            <a:ext cx="48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Monotype Corsiva"/>
              </a:rPr>
              <a:t>Точка Ферма-Торричелли</a:t>
            </a:r>
            <a:r>
              <a:rPr b="1" lang="ru-RU" sz="1800" spc="-1" strike="noStrike">
                <a:solidFill>
                  <a:srgbClr val="464646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4646"/>
                </a:solidFill>
                <a:latin typeface="Monotype Corsiva"/>
              </a:rPr>
              <a:t> </a:t>
            </a:r>
            <a:r>
              <a:rPr b="0" i="1" lang="ru-RU" sz="1800" spc="-1" strike="noStrike">
                <a:solidFill>
                  <a:srgbClr val="464646"/>
                </a:solidFill>
                <a:latin typeface="Bookman Old Style"/>
              </a:rPr>
              <a:t>–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такая точка , из которой стороны данного треугольника видны под углом 12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2"/>
          <p:cNvSpPr/>
          <p:nvPr/>
        </p:nvSpPr>
        <p:spPr>
          <a:xfrm>
            <a:off x="5043600" y="3630600"/>
            <a:ext cx="39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Точка Ферма-Торричелли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точка треугольника, сумма расстояний от которой до вершин треугольника является минималь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0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39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10153440" cy="124596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8" descr="28"/>
          <p:cNvPicPr/>
          <p:nvPr/>
        </p:nvPicPr>
        <p:blipFill>
          <a:blip r:embed="rId3"/>
          <a:srcRect l="0" t="0" r="0" b="8933"/>
          <a:stretch/>
        </p:blipFill>
        <p:spPr>
          <a:xfrm>
            <a:off x="108000" y="2852640"/>
            <a:ext cx="2592360" cy="2340000"/>
          </a:xfrm>
          <a:prstGeom prst="rect">
            <a:avLst/>
          </a:prstGeom>
          <a:ln w="0">
            <a:noFill/>
          </a:ln>
        </p:spPr>
      </p:pic>
      <p:pic>
        <p:nvPicPr>
          <p:cNvPr id="953" name="Заголовок 1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954" name="TextBox 3"/>
          <p:cNvSpPr/>
          <p:nvPr/>
        </p:nvSpPr>
        <p:spPr>
          <a:xfrm>
            <a:off x="2843280" y="2406600"/>
            <a:ext cx="56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64646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64646"/>
                </a:solidFill>
                <a:latin typeface="Bookman Old Style"/>
              </a:rPr>
              <a:t>Так как отрезок ВВ1, СС1, АА1 пересекаются в одной точке О, то по теореме Че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extBox 4" descr=""/>
          <p:cNvPicPr/>
          <p:nvPr/>
        </p:nvPicPr>
        <p:blipFill>
          <a:blip r:embed="rId5"/>
          <a:stretch/>
        </p:blipFill>
        <p:spPr>
          <a:xfrm>
            <a:off x="2700360" y="3730680"/>
            <a:ext cx="626760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Rectangle 5" descr=""/>
          <p:cNvPicPr/>
          <p:nvPr/>
        </p:nvPicPr>
        <p:blipFill>
          <a:blip r:embed="rId2"/>
          <a:stretch/>
        </p:blipFill>
        <p:spPr>
          <a:xfrm>
            <a:off x="1352520" y="835200"/>
            <a:ext cx="7791480" cy="64584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275760" y="836640"/>
            <a:ext cx="871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В треугольнике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B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на стороне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взята точка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так, что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N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N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,  на стороне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B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- точка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BN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 пересекает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K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BQ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QN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. Найти отношение площадей треугольников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K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BK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4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40bd9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Object 24"/>
              <p:cNvSpPr txBox="1"/>
              <p:nvPr/>
            </p:nvSpPr>
            <p:spPr>
              <a:xfrm>
                <a:off x="6084720" y="3284640"/>
                <a:ext cx="4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9" name="Picture 11" descr="42"/>
          <p:cNvPicPr/>
          <p:nvPr/>
        </p:nvPicPr>
        <p:blipFill>
          <a:blip r:embed="rId3">
            <a:lum bright="-24000"/>
          </a:blip>
          <a:srcRect l="0" t="0" r="0" b="9459"/>
          <a:stretch/>
        </p:blipFill>
        <p:spPr>
          <a:xfrm rot="20778600">
            <a:off x="436680" y="3143160"/>
            <a:ext cx="3537000" cy="320040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12"/>
          <p:cNvGraphicFramePr/>
          <p:nvPr/>
        </p:nvGraphicFramePr>
        <p:xfrm>
          <a:off x="4211640" y="2492280"/>
          <a:ext cx="446400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2492280"/>
                    <a:ext cx="4464000" cy="825480"/>
                  </a:xfrm>
                  <a:prstGeom prst="rect">
                    <a:avLst/>
                  </a:prstGeom>
                  <a:ln w="19080">
                    <a:solidFill>
                      <a:srgbClr val="007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3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4" name="Object 17"/>
          <p:cNvGraphicFramePr/>
          <p:nvPr/>
        </p:nvGraphicFramePr>
        <p:xfrm>
          <a:off x="5364000" y="3825720"/>
          <a:ext cx="2087640" cy="89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5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3825720"/>
                    <a:ext cx="2087640" cy="895680"/>
                  </a:xfrm>
                  <a:prstGeom prst="rect">
                    <a:avLst/>
                  </a:prstGeom>
                  <a:ln w="28440">
                    <a:solidFill>
                      <a:srgbClr val="0070c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6" name="Object 16"/>
          <p:cNvGraphicFramePr/>
          <p:nvPr/>
        </p:nvGraphicFramePr>
        <p:xfrm>
          <a:off x="4572000" y="5300640"/>
          <a:ext cx="3672000" cy="84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7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5300640"/>
                    <a:ext cx="3672000" cy="847800"/>
                  </a:xfrm>
                  <a:prstGeom prst="rect">
                    <a:avLst/>
                  </a:prstGeom>
                  <a:ln w="28440">
                    <a:solidFill>
                      <a:srgbClr val="240bd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8" name="Rectangle 1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30"/>
              <p:cNvSpPr txBox="1"/>
              <p:nvPr/>
            </p:nvSpPr>
            <p:spPr>
              <a:xfrm>
                <a:off x="6084720" y="4721400"/>
                <a:ext cx="430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0" name="Заголовок 1" descr=""/>
          <p:cNvPicPr/>
          <p:nvPr/>
        </p:nvPicPr>
        <p:blipFill>
          <a:blip r:embed="rId10"/>
          <a:stretch/>
        </p:blipFill>
        <p:spPr>
          <a:xfrm>
            <a:off x="457200" y="27468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971" name="TextBox 1"/>
          <p:cNvSpPr/>
          <p:nvPr/>
        </p:nvSpPr>
        <p:spPr>
          <a:xfrm>
            <a:off x="324000" y="194616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Решение: Рассмотрим треугольник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BCN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и секущую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K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По теореме Ме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н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Группа 19"/>
          <p:cNvGrpSpPr/>
          <p:nvPr/>
        </p:nvGrpSpPr>
        <p:grpSpPr>
          <a:xfrm>
            <a:off x="1908000" y="3500280"/>
            <a:ext cx="1943280" cy="2160720"/>
            <a:chOff x="1908000" y="3500280"/>
            <a:chExt cx="1943280" cy="2160720"/>
          </a:xfrm>
        </p:grpSpPr>
        <p:sp>
          <p:nvSpPr>
            <p:cNvPr id="973" name="Прямая соединительная линия 3"/>
            <p:cNvSpPr/>
            <p:nvPr/>
          </p:nvSpPr>
          <p:spPr>
            <a:xfrm>
              <a:off x="1908000" y="3500280"/>
              <a:ext cx="215640" cy="2160720"/>
            </a:xfrm>
            <a:prstGeom prst="line">
              <a:avLst/>
            </a:prstGeom>
            <a:ln w="63360">
              <a:solidFill>
                <a:srgbClr val="1fae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Прямая соединительная линия 16"/>
            <p:cNvSpPr/>
            <p:nvPr/>
          </p:nvSpPr>
          <p:spPr>
            <a:xfrm>
              <a:off x="1908000" y="3500280"/>
              <a:ext cx="1943280" cy="1224000"/>
            </a:xfrm>
            <a:prstGeom prst="line">
              <a:avLst/>
            </a:prstGeom>
            <a:ln w="63360">
              <a:solidFill>
                <a:srgbClr val="1fae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Прямая соединительная линия 20"/>
            <p:cNvSpPr/>
            <p:nvPr/>
          </p:nvSpPr>
          <p:spPr>
            <a:xfrm flipH="1">
              <a:off x="2123640" y="4724280"/>
              <a:ext cx="1656000" cy="936720"/>
            </a:xfrm>
            <a:prstGeom prst="line">
              <a:avLst/>
            </a:prstGeom>
            <a:ln w="63360">
              <a:solidFill>
                <a:srgbClr val="1fae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Прямая соединительная линия 22"/>
          <p:cNvSpPr/>
          <p:nvPr/>
        </p:nvSpPr>
        <p:spPr>
          <a:xfrm flipV="1">
            <a:off x="971640" y="3933360"/>
            <a:ext cx="1655640" cy="237492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0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2" descr=""/>
          <p:cNvPicPr/>
          <p:nvPr/>
        </p:nvPicPr>
        <p:blipFill>
          <a:blip r:embed="rId2"/>
          <a:stretch/>
        </p:blipFill>
        <p:spPr>
          <a:xfrm>
            <a:off x="1403280" y="2019240"/>
            <a:ext cx="1546200" cy="801720"/>
          </a:xfrm>
          <a:prstGeom prst="rect">
            <a:avLst/>
          </a:prstGeom>
          <a:ln w="0">
            <a:noFill/>
          </a:ln>
        </p:spPr>
      </p:pic>
      <p:pic>
        <p:nvPicPr>
          <p:cNvPr id="978" name="Заголовок 1" descr=""/>
          <p:cNvPicPr/>
          <p:nvPr/>
        </p:nvPicPr>
        <p:blipFill>
          <a:blip r:embed="rId3"/>
          <a:stretch/>
        </p:blipFill>
        <p:spPr>
          <a:xfrm>
            <a:off x="298440" y="-128520"/>
            <a:ext cx="5425920" cy="2073240"/>
          </a:xfrm>
          <a:prstGeom prst="rect">
            <a:avLst/>
          </a:prstGeom>
          <a:ln w="0">
            <a:noFill/>
          </a:ln>
        </p:spPr>
      </p:pic>
      <p:grpSp>
        <p:nvGrpSpPr>
          <p:cNvPr id="979" name="Группа 49"/>
          <p:cNvGrpSpPr/>
          <p:nvPr/>
        </p:nvGrpSpPr>
        <p:grpSpPr>
          <a:xfrm>
            <a:off x="4791240" y="115920"/>
            <a:ext cx="4173480" cy="3074040"/>
            <a:chOff x="4791240" y="115920"/>
            <a:chExt cx="4173480" cy="3074040"/>
          </a:xfrm>
        </p:grpSpPr>
        <p:sp>
          <p:nvSpPr>
            <p:cNvPr id="980" name="Прямая соединительная линия 4"/>
            <p:cNvSpPr/>
            <p:nvPr/>
          </p:nvSpPr>
          <p:spPr>
            <a:xfrm>
              <a:off x="5130720" y="3142080"/>
              <a:ext cx="354672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Прямая соединительная линия 13"/>
            <p:cNvSpPr/>
            <p:nvPr/>
          </p:nvSpPr>
          <p:spPr>
            <a:xfrm flipV="1">
              <a:off x="5130720" y="231480"/>
              <a:ext cx="1628640" cy="291024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Прямая соединительная линия 15"/>
            <p:cNvSpPr/>
            <p:nvPr/>
          </p:nvSpPr>
          <p:spPr>
            <a:xfrm>
              <a:off x="6759720" y="231480"/>
              <a:ext cx="1917720" cy="29163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Прямая соединительная линия 17"/>
            <p:cNvSpPr/>
            <p:nvPr/>
          </p:nvSpPr>
          <p:spPr>
            <a:xfrm flipV="1">
              <a:off x="5130720" y="2364120"/>
              <a:ext cx="1628640" cy="784080"/>
            </a:xfrm>
            <a:prstGeom prst="line">
              <a:avLst/>
            </a:prstGeom>
            <a:ln w="3816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Прямая соединительная линия 20"/>
            <p:cNvSpPr/>
            <p:nvPr/>
          </p:nvSpPr>
          <p:spPr>
            <a:xfrm>
              <a:off x="6759720" y="231480"/>
              <a:ext cx="0" cy="2132280"/>
            </a:xfrm>
            <a:prstGeom prst="line">
              <a:avLst/>
            </a:prstGeom>
            <a:ln w="3816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Прямая соединительная линия 23"/>
            <p:cNvSpPr/>
            <p:nvPr/>
          </p:nvSpPr>
          <p:spPr>
            <a:xfrm>
              <a:off x="6759720" y="2364120"/>
              <a:ext cx="1917720" cy="784080"/>
            </a:xfrm>
            <a:prstGeom prst="line">
              <a:avLst/>
            </a:prstGeom>
            <a:ln w="3816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Прямая соединительная линия 26"/>
            <p:cNvSpPr/>
            <p:nvPr/>
          </p:nvSpPr>
          <p:spPr>
            <a:xfrm flipV="1">
              <a:off x="6088320" y="231480"/>
              <a:ext cx="671400" cy="2476800"/>
            </a:xfrm>
            <a:prstGeom prst="line">
              <a:avLst/>
            </a:prstGeom>
            <a:ln w="3816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Прямая соединительная линия 30"/>
            <p:cNvSpPr/>
            <p:nvPr/>
          </p:nvSpPr>
          <p:spPr>
            <a:xfrm flipH="1" flipV="1">
              <a:off x="6759720" y="231480"/>
              <a:ext cx="839520" cy="2476800"/>
            </a:xfrm>
            <a:prstGeom prst="line">
              <a:avLst/>
            </a:prstGeom>
            <a:ln w="3816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Прямая соединительная линия 38"/>
            <p:cNvSpPr/>
            <p:nvPr/>
          </p:nvSpPr>
          <p:spPr>
            <a:xfrm flipV="1">
              <a:off x="6759720" y="907920"/>
              <a:ext cx="419040" cy="145584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Прямая соединительная линия 42"/>
            <p:cNvSpPr/>
            <p:nvPr/>
          </p:nvSpPr>
          <p:spPr>
            <a:xfrm flipV="1">
              <a:off x="6245280" y="907560"/>
              <a:ext cx="933480" cy="29196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Прямая соединительная линия 43"/>
            <p:cNvSpPr/>
            <p:nvPr/>
          </p:nvSpPr>
          <p:spPr>
            <a:xfrm>
              <a:off x="6228000" y="1197000"/>
              <a:ext cx="531720" cy="116676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Box 48"/>
            <p:cNvSpPr/>
            <p:nvPr/>
          </p:nvSpPr>
          <p:spPr>
            <a:xfrm>
              <a:off x="4791240" y="28216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Box 56"/>
            <p:cNvSpPr/>
            <p:nvPr/>
          </p:nvSpPr>
          <p:spPr>
            <a:xfrm>
              <a:off x="6644880" y="24523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Box 57"/>
            <p:cNvSpPr/>
            <p:nvPr/>
          </p:nvSpPr>
          <p:spPr>
            <a:xfrm>
              <a:off x="8676720" y="28216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59"/>
            <p:cNvSpPr/>
            <p:nvPr/>
          </p:nvSpPr>
          <p:spPr>
            <a:xfrm>
              <a:off x="7074720" y="1159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Box 61"/>
          <p:cNvSpPr/>
          <p:nvPr/>
        </p:nvSpPr>
        <p:spPr>
          <a:xfrm>
            <a:off x="6073920" y="1427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2"/>
          <p:cNvSpPr/>
          <p:nvPr/>
        </p:nvSpPr>
        <p:spPr>
          <a:xfrm>
            <a:off x="6084720" y="25700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3"/>
          <p:cNvSpPr/>
          <p:nvPr/>
        </p:nvSpPr>
        <p:spPr>
          <a:xfrm>
            <a:off x="7130880" y="10540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64"/>
          <p:cNvSpPr/>
          <p:nvPr/>
        </p:nvSpPr>
        <p:spPr>
          <a:xfrm>
            <a:off x="7209000" y="63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65"/>
          <p:cNvSpPr/>
          <p:nvPr/>
        </p:nvSpPr>
        <p:spPr>
          <a:xfrm>
            <a:off x="5800680" y="928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66"/>
          <p:cNvSpPr/>
          <p:nvPr/>
        </p:nvSpPr>
        <p:spPr>
          <a:xfrm>
            <a:off x="7543800" y="2386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50"/>
          <p:cNvSpPr/>
          <p:nvPr/>
        </p:nvSpPr>
        <p:spPr>
          <a:xfrm>
            <a:off x="0" y="1817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64646"/>
                </a:solidFill>
                <a:latin typeface="Bookman Old Style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Прямая соединительная линия 52"/>
          <p:cNvSpPr/>
          <p:nvPr/>
        </p:nvSpPr>
        <p:spPr>
          <a:xfrm flipV="1">
            <a:off x="282600" y="1835280"/>
            <a:ext cx="3527280" cy="2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11" descr=""/>
          <p:cNvPicPr/>
          <p:nvPr/>
        </p:nvPicPr>
        <p:blipFill>
          <a:blip r:embed="rId4"/>
          <a:stretch/>
        </p:blipFill>
        <p:spPr>
          <a:xfrm>
            <a:off x="-355680" y="3716280"/>
            <a:ext cx="6300720" cy="11746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3" descr=""/>
          <p:cNvPicPr/>
          <p:nvPr/>
        </p:nvPicPr>
        <p:blipFill>
          <a:blip r:embed="rId5"/>
          <a:stretch/>
        </p:blipFill>
        <p:spPr>
          <a:xfrm>
            <a:off x="-355680" y="2527200"/>
            <a:ext cx="6300720" cy="12398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4" descr=""/>
          <p:cNvPicPr/>
          <p:nvPr/>
        </p:nvPicPr>
        <p:blipFill>
          <a:blip r:embed="rId6"/>
          <a:stretch/>
        </p:blipFill>
        <p:spPr>
          <a:xfrm>
            <a:off x="4067280" y="3284640"/>
            <a:ext cx="6626160" cy="1735200"/>
          </a:xfrm>
          <a:prstGeom prst="rect">
            <a:avLst/>
          </a:prstGeom>
          <a:ln w="0">
            <a:noFill/>
          </a:ln>
        </p:spPr>
      </p:pic>
      <p:grpSp>
        <p:nvGrpSpPr>
          <p:cNvPr id="1006" name="Группа 2"/>
          <p:cNvGrpSpPr/>
          <p:nvPr/>
        </p:nvGrpSpPr>
        <p:grpSpPr>
          <a:xfrm>
            <a:off x="-260280" y="5019840"/>
            <a:ext cx="6300720" cy="996840"/>
            <a:chOff x="-260280" y="5019840"/>
            <a:chExt cx="6300720" cy="996840"/>
          </a:xfrm>
        </p:grpSpPr>
        <p:pic>
          <p:nvPicPr>
            <p:cNvPr id="1007" name="Picture 12" descr=""/>
            <p:cNvPicPr/>
            <p:nvPr/>
          </p:nvPicPr>
          <p:blipFill>
            <a:blip r:embed="rId7"/>
            <a:srcRect l="0" t="0" r="0" b="73477"/>
            <a:stretch/>
          </p:blipFill>
          <p:spPr>
            <a:xfrm>
              <a:off x="-260280" y="5019840"/>
              <a:ext cx="63007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TextBox 1" descr=""/>
            <p:cNvPicPr/>
            <p:nvPr/>
          </p:nvPicPr>
          <p:blipFill>
            <a:blip r:embed="rId8"/>
            <a:stretch/>
          </p:blipFill>
          <p:spPr>
            <a:xfrm>
              <a:off x="511920" y="5346360"/>
              <a:ext cx="3072240" cy="670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Заголовок 1" descr=""/>
          <p:cNvPicPr/>
          <p:nvPr/>
        </p:nvPicPr>
        <p:blipFill>
          <a:blip r:embed="rId2"/>
          <a:stretch/>
        </p:blipFill>
        <p:spPr>
          <a:xfrm>
            <a:off x="828720" y="115920"/>
            <a:ext cx="7791480" cy="29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0" name=""/>
          <p:cNvGraphicFramePr/>
          <p:nvPr/>
        </p:nvGraphicFramePr>
        <p:xfrm>
          <a:off x="250920" y="2997360"/>
          <a:ext cx="8488440" cy="2993760"/>
        </p:xfrm>
        <a:graphic>
          <a:graphicData uri="http://schemas.openxmlformats.org/drawingml/2006/table">
            <a:tbl>
              <a:tblPr/>
              <a:tblGrid>
                <a:gridCol w="1393560"/>
                <a:gridCol w="1609920"/>
                <a:gridCol w="1433520"/>
                <a:gridCol w="1433520"/>
                <a:gridCol w="1434960"/>
                <a:gridCol w="1182960"/>
              </a:tblGrid>
              <a:tr h="73656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оличество детей на момент опр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3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4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0952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1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4768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1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230040" y="764640"/>
            <a:ext cx="863136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12" name="Rectangle 2" descr=""/>
          <p:cNvPicPr/>
          <p:nvPr/>
        </p:nvPicPr>
        <p:blipFill>
          <a:blip r:embed="rId2"/>
          <a:stretch/>
        </p:blipFill>
        <p:spPr>
          <a:xfrm>
            <a:off x="1000080" y="1268280"/>
            <a:ext cx="7461360" cy="4224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4"/>
          <p:cNvSpPr/>
          <p:nvPr/>
        </p:nvSpPr>
        <p:spPr>
          <a:xfrm>
            <a:off x="468360" y="2637000"/>
            <a:ext cx="766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"/>
          <p:cNvSpPr/>
          <p:nvPr/>
        </p:nvSpPr>
        <p:spPr>
          <a:xfrm>
            <a:off x="3419640" y="2133720"/>
            <a:ext cx="54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5" descr=""/>
          <p:cNvPicPr/>
          <p:nvPr/>
        </p:nvPicPr>
        <p:blipFill>
          <a:blip r:embed="rId2"/>
          <a:stretch/>
        </p:blipFill>
        <p:spPr>
          <a:xfrm>
            <a:off x="682560" y="835200"/>
            <a:ext cx="7796160" cy="17492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042920" y="2781000"/>
            <a:ext cx="741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анализировать  литературу по данной тем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Обобщить  свойства и доказать необходимые теоремы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Решить задачи по данной тем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493560" y="1989000"/>
            <a:ext cx="8631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16" name="Rectangle 2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418520" cy="422460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4"/>
          <p:cNvSpPr/>
          <p:nvPr/>
        </p:nvSpPr>
        <p:spPr>
          <a:xfrm>
            <a:off x="468360" y="2637000"/>
            <a:ext cx="766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692360" y="2386080"/>
            <a:ext cx="54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2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5" descr=""/>
          <p:cNvPicPr/>
          <p:nvPr/>
        </p:nvPicPr>
        <p:blipFill>
          <a:blip r:embed="rId3"/>
          <a:stretch/>
        </p:blipFill>
        <p:spPr>
          <a:xfrm>
            <a:off x="971640" y="4551480"/>
            <a:ext cx="3227400" cy="117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7"/>
          <p:cNvSpPr/>
          <p:nvPr/>
        </p:nvSpPr>
        <p:spPr>
          <a:xfrm>
            <a:off x="480960" y="1309320"/>
            <a:ext cx="76914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Пусть на сторонах АВ, ВС и АС треугольника АВС взяты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С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,А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,В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1347120" y="3913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7"/>
          <p:cNvSpPr/>
          <p:nvPr/>
        </p:nvSpPr>
        <p:spPr>
          <a:xfrm flipV="1">
            <a:off x="5435640" y="3429000"/>
            <a:ext cx="1873080" cy="14479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9"/>
          <p:cNvSpPr/>
          <p:nvPr/>
        </p:nvSpPr>
        <p:spPr>
          <a:xfrm flipH="1">
            <a:off x="6372360" y="2763720"/>
            <a:ext cx="691920" cy="21481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 flipV="1">
            <a:off x="5413320" y="2731680"/>
            <a:ext cx="1650960" cy="216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2"/>
          <p:cNvSpPr/>
          <p:nvPr/>
        </p:nvSpPr>
        <p:spPr>
          <a:xfrm>
            <a:off x="5388120" y="489744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 flipH="1" flipV="1">
            <a:off x="7061040" y="2717280"/>
            <a:ext cx="727200" cy="217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5148360" y="491184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7642080" y="489744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6877080" y="23493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8"/>
          <p:cNvSpPr/>
          <p:nvPr/>
        </p:nvSpPr>
        <p:spPr>
          <a:xfrm>
            <a:off x="6443640" y="3645000"/>
            <a:ext cx="1344600" cy="1252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554040" y="2759760"/>
            <a:ext cx="5832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</a:rPr>
              <a:t>Прямые АА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</a:rPr>
              <a:t>, ВВ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</a:rPr>
              <a:t>, СС</a:t>
            </a:r>
            <a:r>
              <a:rPr b="0" i="1" lang="ru-RU" sz="2800" spc="-1" strike="noStrike" baseline="-25000">
                <a:solidFill>
                  <a:srgbClr val="464646"/>
                </a:solidFill>
                <a:latin typeface="Bookman Old Style"/>
              </a:rPr>
              <a:t>1</a:t>
            </a: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</a:rPr>
              <a:t> пересекаются в одной 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46"/>
                </a:solidFill>
                <a:latin typeface="Bookman Old Style"/>
              </a:rPr>
              <a:t>тогда и только тогда, к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4"/>
          <p:cNvGrpSpPr/>
          <p:nvPr/>
        </p:nvGrpSpPr>
        <p:grpSpPr>
          <a:xfrm>
            <a:off x="5796000" y="3321000"/>
            <a:ext cx="647640" cy="510120"/>
            <a:chOff x="5796000" y="3321000"/>
            <a:chExt cx="647640" cy="510120"/>
          </a:xfrm>
        </p:grpSpPr>
        <p:sp>
          <p:nvSpPr>
            <p:cNvPr id="536" name="Text Box 26"/>
            <p:cNvSpPr/>
            <p:nvPr/>
          </p:nvSpPr>
          <p:spPr>
            <a:xfrm>
              <a:off x="5796000" y="332100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4646"/>
                  </a:solidFill>
                  <a:latin typeface="Tahoma"/>
                </a:rPr>
                <a:t>В</a:t>
              </a:r>
              <a:r>
                <a:rPr b="1" lang="ru-RU" sz="2400" spc="-1" strike="noStrike" baseline="-25000">
                  <a:solidFill>
                    <a:srgbClr val="464646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Овал 1"/>
            <p:cNvSpPr/>
            <p:nvPr/>
          </p:nvSpPr>
          <p:spPr>
            <a:xfrm>
              <a:off x="6326280" y="3549600"/>
              <a:ext cx="117360" cy="1317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Группа 3"/>
          <p:cNvGrpSpPr/>
          <p:nvPr/>
        </p:nvGrpSpPr>
        <p:grpSpPr>
          <a:xfrm>
            <a:off x="7250040" y="3157560"/>
            <a:ext cx="587520" cy="510120"/>
            <a:chOff x="7250040" y="3157560"/>
            <a:chExt cx="587520" cy="510120"/>
          </a:xfrm>
        </p:grpSpPr>
        <p:sp>
          <p:nvSpPr>
            <p:cNvPr id="539" name="Text Box 25"/>
            <p:cNvSpPr/>
            <p:nvPr/>
          </p:nvSpPr>
          <p:spPr>
            <a:xfrm>
              <a:off x="7308720" y="3157560"/>
              <a:ext cx="52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4646"/>
                  </a:solidFill>
                  <a:latin typeface="Tahoma"/>
                </a:rPr>
                <a:t>А</a:t>
              </a:r>
              <a:r>
                <a:rPr b="1" lang="ru-RU" sz="2400" spc="-1" strike="noStrike" baseline="-25000">
                  <a:solidFill>
                    <a:srgbClr val="464646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Овал 23"/>
            <p:cNvSpPr/>
            <p:nvPr/>
          </p:nvSpPr>
          <p:spPr>
            <a:xfrm>
              <a:off x="7250040" y="3362400"/>
              <a:ext cx="117360" cy="1317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Группа 2"/>
          <p:cNvGrpSpPr/>
          <p:nvPr/>
        </p:nvGrpSpPr>
        <p:grpSpPr>
          <a:xfrm>
            <a:off x="6227640" y="4803840"/>
            <a:ext cx="530280" cy="575640"/>
            <a:chOff x="6227640" y="4803840"/>
            <a:chExt cx="530280" cy="575640"/>
          </a:xfrm>
        </p:grpSpPr>
        <p:sp>
          <p:nvSpPr>
            <p:cNvPr id="542" name="Text Box 21"/>
            <p:cNvSpPr/>
            <p:nvPr/>
          </p:nvSpPr>
          <p:spPr>
            <a:xfrm>
              <a:off x="6227640" y="486936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4646"/>
                  </a:solidFill>
                  <a:latin typeface="Tahoma"/>
                </a:rPr>
                <a:t>С</a:t>
              </a:r>
              <a:r>
                <a:rPr b="1" lang="ru-RU" sz="2400" spc="-1" strike="noStrike" baseline="-25000">
                  <a:solidFill>
                    <a:srgbClr val="464646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Овал 24"/>
            <p:cNvSpPr/>
            <p:nvPr/>
          </p:nvSpPr>
          <p:spPr>
            <a:xfrm>
              <a:off x="6313320" y="4803840"/>
              <a:ext cx="117360" cy="1317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2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51"/>
          <p:cNvGrpSpPr/>
          <p:nvPr/>
        </p:nvGrpSpPr>
        <p:grpSpPr>
          <a:xfrm>
            <a:off x="466560" y="2365200"/>
            <a:ext cx="3013200" cy="2922120"/>
            <a:chOff x="466560" y="2365200"/>
            <a:chExt cx="3013200" cy="2922120"/>
          </a:xfrm>
        </p:grpSpPr>
        <p:sp>
          <p:nvSpPr>
            <p:cNvPr id="546" name="Line 5"/>
            <p:cNvSpPr/>
            <p:nvPr/>
          </p:nvSpPr>
          <p:spPr>
            <a:xfrm flipV="1">
              <a:off x="684360" y="2723760"/>
              <a:ext cx="1670040" cy="20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6"/>
            <p:cNvSpPr/>
            <p:nvPr/>
          </p:nvSpPr>
          <p:spPr>
            <a:xfrm>
              <a:off x="703440" y="483084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"/>
            <p:cNvSpPr/>
            <p:nvPr/>
          </p:nvSpPr>
          <p:spPr>
            <a:xfrm flipH="1" flipV="1">
              <a:off x="2357280" y="2723760"/>
              <a:ext cx="703440" cy="20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8"/>
            <p:cNvSpPr/>
            <p:nvPr/>
          </p:nvSpPr>
          <p:spPr>
            <a:xfrm>
              <a:off x="466560" y="482760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"/>
            <p:cNvSpPr/>
            <p:nvPr/>
          </p:nvSpPr>
          <p:spPr>
            <a:xfrm>
              <a:off x="2955960" y="48132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2303640" y="23652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54"/>
          <p:cNvGrpSpPr/>
          <p:nvPr/>
        </p:nvGrpSpPr>
        <p:grpSpPr>
          <a:xfrm>
            <a:off x="2124000" y="1989000"/>
            <a:ext cx="649440" cy="2808360"/>
            <a:chOff x="2124000" y="1989000"/>
            <a:chExt cx="649440" cy="2808360"/>
          </a:xfrm>
        </p:grpSpPr>
        <p:sp>
          <p:nvSpPr>
            <p:cNvPr id="553" name="Line 11"/>
            <p:cNvSpPr/>
            <p:nvPr/>
          </p:nvSpPr>
          <p:spPr>
            <a:xfrm flipV="1">
              <a:off x="2320920" y="198900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2"/>
            <p:cNvSpPr/>
            <p:nvPr/>
          </p:nvSpPr>
          <p:spPr>
            <a:xfrm flipH="1">
              <a:off x="2124000" y="1989000"/>
              <a:ext cx="64944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2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Object 21" descr=""/>
          <p:cNvPicPr/>
          <p:nvPr/>
        </p:nvPicPr>
        <p:blipFill>
          <a:blip r:embed="rId3"/>
          <a:stretch/>
        </p:blipFill>
        <p:spPr>
          <a:xfrm>
            <a:off x="4356000" y="5083200"/>
            <a:ext cx="3059280" cy="11145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0"/>
          <p:cNvSpPr/>
          <p:nvPr/>
        </p:nvSpPr>
        <p:spPr>
          <a:xfrm>
            <a:off x="628560" y="4079880"/>
            <a:ext cx="228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3152880" y="1341000"/>
            <a:ext cx="56880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Пусть на сторонах АВ, ВС и продолжении стороны АС треугольника АВС взяты соответственно точки   С</a:t>
            </a:r>
            <a:r>
              <a:rPr b="0" i="1" lang="ru-RU" sz="24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,А</a:t>
            </a:r>
            <a:r>
              <a:rPr b="0" i="1" lang="ru-RU" sz="24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,В</a:t>
            </a:r>
            <a:r>
              <a:rPr b="0" i="1" lang="ru-RU" sz="2400" spc="-1" strike="noStrike" baseline="-25000">
                <a:solidFill>
                  <a:srgbClr val="464646"/>
                </a:solidFill>
                <a:latin typeface="Bookman Old Style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.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46"/>
                </a:solidFill>
                <a:latin typeface="Bookman Old Style"/>
                <a:ea typeface="Times New Roman"/>
              </a:rPr>
              <a:t>Точки лежат на одной прямой тогда и только тогда, когда выполняется равен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53"/>
          <p:cNvGrpSpPr/>
          <p:nvPr/>
        </p:nvGrpSpPr>
        <p:grpSpPr>
          <a:xfrm>
            <a:off x="610920" y="1916280"/>
            <a:ext cx="2521080" cy="3025440"/>
            <a:chOff x="610920" y="1916280"/>
            <a:chExt cx="2521080" cy="3025440"/>
          </a:xfrm>
        </p:grpSpPr>
        <p:sp>
          <p:nvSpPr>
            <p:cNvPr id="560" name="Line 41"/>
            <p:cNvSpPr/>
            <p:nvPr/>
          </p:nvSpPr>
          <p:spPr>
            <a:xfrm>
              <a:off x="755640" y="4941720"/>
              <a:ext cx="115236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2"/>
            <p:cNvSpPr/>
            <p:nvPr/>
          </p:nvSpPr>
          <p:spPr>
            <a:xfrm>
              <a:off x="2268360" y="4941720"/>
              <a:ext cx="648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4"/>
            <p:cNvSpPr/>
            <p:nvPr/>
          </p:nvSpPr>
          <p:spPr>
            <a:xfrm flipH="1" flipV="1">
              <a:off x="2843280" y="3789360"/>
              <a:ext cx="288720" cy="719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5"/>
            <p:cNvSpPr/>
            <p:nvPr/>
          </p:nvSpPr>
          <p:spPr>
            <a:xfrm flipH="1" flipV="1">
              <a:off x="2411280" y="2707920"/>
              <a:ext cx="144720" cy="36036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6"/>
            <p:cNvSpPr/>
            <p:nvPr/>
          </p:nvSpPr>
          <p:spPr>
            <a:xfrm flipV="1">
              <a:off x="2268360" y="2060280"/>
              <a:ext cx="358920" cy="431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7"/>
            <p:cNvSpPr/>
            <p:nvPr/>
          </p:nvSpPr>
          <p:spPr>
            <a:xfrm flipH="1">
              <a:off x="610920" y="1916280"/>
              <a:ext cx="1871640" cy="2447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52"/>
          <p:cNvGrpSpPr/>
          <p:nvPr/>
        </p:nvGrpSpPr>
        <p:grpSpPr>
          <a:xfrm>
            <a:off x="3240" y="1270080"/>
            <a:ext cx="9144000" cy="4059720"/>
            <a:chOff x="3240" y="1270080"/>
            <a:chExt cx="9144000" cy="4059720"/>
          </a:xfrm>
        </p:grpSpPr>
        <p:sp>
          <p:nvSpPr>
            <p:cNvPr id="567" name="Text Box 14"/>
            <p:cNvSpPr/>
            <p:nvPr/>
          </p:nvSpPr>
          <p:spPr>
            <a:xfrm>
              <a:off x="2774880" y="1722600"/>
              <a:ext cx="5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5"/>
            <p:cNvSpPr/>
            <p:nvPr/>
          </p:nvSpPr>
          <p:spPr>
            <a:xfrm>
              <a:off x="1833480" y="4819680"/>
              <a:ext cx="52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6"/>
            <p:cNvSpPr/>
            <p:nvPr/>
          </p:nvSpPr>
          <p:spPr>
            <a:xfrm>
              <a:off x="2657520" y="2998800"/>
              <a:ext cx="52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36"/>
            <p:cNvSpPr/>
            <p:nvPr/>
          </p:nvSpPr>
          <p:spPr>
            <a:xfrm>
              <a:off x="3240" y="2011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48"/>
            <p:cNvSpPr/>
            <p:nvPr/>
          </p:nvSpPr>
          <p:spPr>
            <a:xfrm>
              <a:off x="1848240" y="4098960"/>
              <a:ext cx="38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9"/>
            <p:cNvSpPr/>
            <p:nvPr/>
          </p:nvSpPr>
          <p:spPr>
            <a:xfrm>
              <a:off x="2286000" y="2443320"/>
              <a:ext cx="2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50"/>
            <p:cNvSpPr/>
            <p:nvPr/>
          </p:nvSpPr>
          <p:spPr>
            <a:xfrm>
              <a:off x="2551680" y="1270080"/>
              <a:ext cx="38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66ff33"/>
                  </a:solidFill>
                  <a:latin typeface="Tahoma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2"/>
          <a:stretch/>
        </p:blipFill>
        <p:spPr>
          <a:xfrm>
            <a:off x="609480" y="19080"/>
            <a:ext cx="7705800" cy="14619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85672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усть на сторонах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B, BC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 и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 треугольника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взяты соответственно точки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 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и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 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. Ес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резки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 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ересекаются в одной точке 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6" name="Рисунок 9" descr="http://www.vasmirnov.ru/Lecture/Cheva/Cheva.files/image024.gif"/>
          <p:cNvPicPr/>
          <p:nvPr/>
        </p:nvPicPr>
        <p:blipFill>
          <a:blip r:embed="rId3"/>
          <a:srcRect l="0" t="0" r="0" b="10822"/>
          <a:stretch/>
        </p:blipFill>
        <p:spPr>
          <a:xfrm>
            <a:off x="3624120" y="2708280"/>
            <a:ext cx="5112000" cy="3706920"/>
          </a:xfrm>
          <a:prstGeom prst="rect">
            <a:avLst/>
          </a:prstGeom>
          <a:ln w="0">
            <a:noFill/>
          </a:ln>
        </p:spPr>
      </p:pic>
      <p:pic>
        <p:nvPicPr>
          <p:cNvPr id="577" name="TextBox 1" descr=""/>
          <p:cNvPicPr/>
          <p:nvPr/>
        </p:nvPicPr>
        <p:blipFill>
          <a:blip r:embed="rId4"/>
          <a:stretch/>
        </p:blipFill>
        <p:spPr>
          <a:xfrm>
            <a:off x="285840" y="2925720"/>
            <a:ext cx="33224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2"/>
          <p:cNvSpPr/>
          <p:nvPr/>
        </p:nvSpPr>
        <p:spPr>
          <a:xfrm>
            <a:off x="4589640" y="3978360"/>
            <a:ext cx="4273200" cy="26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3120" y="981000"/>
            <a:ext cx="84297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Monotype Corsiv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Пусть точки A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, B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, 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 лежат на прямых BC, CA, AB соответственно. Перпендикуляры к соответствующим сторонам треугольника, восставленные в точках A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, B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, 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, пересекаются в одной точке тогда и только тогда, когда выполняется условие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1" descr=""/>
          <p:cNvPicPr/>
          <p:nvPr/>
        </p:nvPicPr>
        <p:blipFill>
          <a:blip r:embed="rId2"/>
          <a:stretch/>
        </p:blipFill>
        <p:spPr>
          <a:xfrm>
            <a:off x="542880" y="0"/>
            <a:ext cx="7405560" cy="120024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"/>
          <p:cNvSpPr/>
          <p:nvPr/>
        </p:nvSpPr>
        <p:spPr>
          <a:xfrm>
            <a:off x="490680" y="3613320"/>
            <a:ext cx="655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С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В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4537080" y="3897360"/>
            <a:ext cx="43974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>
            <a:off x="5029200" y="6113520"/>
            <a:ext cx="3354480" cy="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9"/>
          <p:cNvSpPr/>
          <p:nvPr/>
        </p:nvSpPr>
        <p:spPr>
          <a:xfrm flipH="1">
            <a:off x="5057640" y="4221000"/>
            <a:ext cx="2903760" cy="189576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7980480" y="4255920"/>
            <a:ext cx="450720" cy="189576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6597720" y="5119560"/>
            <a:ext cx="731880" cy="99720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6745320" y="5029200"/>
            <a:ext cx="0" cy="108756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3"/>
          <p:cNvSpPr/>
          <p:nvPr/>
        </p:nvSpPr>
        <p:spPr>
          <a:xfrm flipH="1">
            <a:off x="6226200" y="5267160"/>
            <a:ext cx="2038320" cy="1065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16"/>
          <p:cNvGrpSpPr/>
          <p:nvPr/>
        </p:nvGrpSpPr>
        <p:grpSpPr>
          <a:xfrm>
            <a:off x="6575040" y="5326200"/>
            <a:ext cx="198360" cy="267840"/>
            <a:chOff x="6575040" y="5326200"/>
            <a:chExt cx="198360" cy="267840"/>
          </a:xfrm>
        </p:grpSpPr>
        <p:sp>
          <p:nvSpPr>
            <p:cNvPr id="590" name="Oval 14"/>
            <p:cNvSpPr/>
            <p:nvPr/>
          </p:nvSpPr>
          <p:spPr>
            <a:xfrm>
              <a:off x="6714720" y="5326200"/>
              <a:ext cx="58680" cy="36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5"/>
            <p:cNvSpPr/>
            <p:nvPr/>
          </p:nvSpPr>
          <p:spPr>
            <a:xfrm>
              <a:off x="6575040" y="5411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0"/>
          <p:cNvGrpSpPr/>
          <p:nvPr/>
        </p:nvGrpSpPr>
        <p:grpSpPr>
          <a:xfrm>
            <a:off x="6727680" y="6095880"/>
            <a:ext cx="248400" cy="294480"/>
            <a:chOff x="6727680" y="6095880"/>
            <a:chExt cx="248400" cy="294480"/>
          </a:xfrm>
        </p:grpSpPr>
        <p:sp>
          <p:nvSpPr>
            <p:cNvPr id="593" name="Oval 17"/>
            <p:cNvSpPr/>
            <p:nvPr/>
          </p:nvSpPr>
          <p:spPr>
            <a:xfrm>
              <a:off x="6727680" y="6095880"/>
              <a:ext cx="59040" cy="35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8"/>
            <p:cNvSpPr/>
            <p:nvPr/>
          </p:nvSpPr>
          <p:spPr>
            <a:xfrm>
              <a:off x="6783840" y="617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9"/>
            <p:cNvSpPr/>
            <p:nvPr/>
          </p:nvSpPr>
          <p:spPr>
            <a:xfrm>
              <a:off x="6911280" y="625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24"/>
          <p:cNvGrpSpPr/>
          <p:nvPr/>
        </p:nvGrpSpPr>
        <p:grpSpPr>
          <a:xfrm>
            <a:off x="8205840" y="5210280"/>
            <a:ext cx="461520" cy="209160"/>
            <a:chOff x="8205840" y="5210280"/>
            <a:chExt cx="461520" cy="209160"/>
          </a:xfrm>
        </p:grpSpPr>
        <p:sp>
          <p:nvSpPr>
            <p:cNvPr id="597" name="Oval 21"/>
            <p:cNvSpPr/>
            <p:nvPr/>
          </p:nvSpPr>
          <p:spPr>
            <a:xfrm>
              <a:off x="8205840" y="5258160"/>
              <a:ext cx="58680" cy="34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2"/>
            <p:cNvSpPr/>
            <p:nvPr/>
          </p:nvSpPr>
          <p:spPr>
            <a:xfrm>
              <a:off x="8496000" y="52102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3"/>
            <p:cNvSpPr/>
            <p:nvPr/>
          </p:nvSpPr>
          <p:spPr>
            <a:xfrm>
              <a:off x="8602560" y="5281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8"/>
          <p:cNvGrpSpPr/>
          <p:nvPr/>
        </p:nvGrpSpPr>
        <p:grpSpPr>
          <a:xfrm>
            <a:off x="6317640" y="4871880"/>
            <a:ext cx="300240" cy="266400"/>
            <a:chOff x="6317640" y="4871880"/>
            <a:chExt cx="300240" cy="266400"/>
          </a:xfrm>
        </p:grpSpPr>
        <p:sp>
          <p:nvSpPr>
            <p:cNvPr id="601" name="Oval 25"/>
            <p:cNvSpPr/>
            <p:nvPr/>
          </p:nvSpPr>
          <p:spPr>
            <a:xfrm>
              <a:off x="6559560" y="5103000"/>
              <a:ext cx="58320" cy="35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6"/>
            <p:cNvSpPr/>
            <p:nvPr/>
          </p:nvSpPr>
          <p:spPr>
            <a:xfrm>
              <a:off x="6317640" y="4871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7"/>
            <p:cNvSpPr/>
            <p:nvPr/>
          </p:nvSpPr>
          <p:spPr>
            <a:xfrm>
              <a:off x="6467400" y="494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31"/>
          <p:cNvGrpSpPr/>
          <p:nvPr/>
        </p:nvGrpSpPr>
        <p:grpSpPr>
          <a:xfrm>
            <a:off x="4859640" y="6093000"/>
            <a:ext cx="218520" cy="266400"/>
            <a:chOff x="4859640" y="6093000"/>
            <a:chExt cx="218520" cy="266400"/>
          </a:xfrm>
        </p:grpSpPr>
        <p:sp>
          <p:nvSpPr>
            <p:cNvPr id="605" name="Oval 29"/>
            <p:cNvSpPr/>
            <p:nvPr/>
          </p:nvSpPr>
          <p:spPr>
            <a:xfrm>
              <a:off x="5019840" y="6093000"/>
              <a:ext cx="58320" cy="35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30"/>
            <p:cNvSpPr/>
            <p:nvPr/>
          </p:nvSpPr>
          <p:spPr>
            <a:xfrm>
              <a:off x="4859640" y="6176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4"/>
          <p:cNvGrpSpPr/>
          <p:nvPr/>
        </p:nvGrpSpPr>
        <p:grpSpPr>
          <a:xfrm>
            <a:off x="8372520" y="6093000"/>
            <a:ext cx="398520" cy="231120"/>
            <a:chOff x="8372520" y="6093000"/>
            <a:chExt cx="398520" cy="231120"/>
          </a:xfrm>
        </p:grpSpPr>
        <p:sp>
          <p:nvSpPr>
            <p:cNvPr id="608" name="Oval 32"/>
            <p:cNvSpPr/>
            <p:nvPr/>
          </p:nvSpPr>
          <p:spPr>
            <a:xfrm>
              <a:off x="8372520" y="6093000"/>
              <a:ext cx="58320" cy="35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3"/>
            <p:cNvSpPr/>
            <p:nvPr/>
          </p:nvSpPr>
          <p:spPr>
            <a:xfrm>
              <a:off x="8660520" y="6141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37"/>
          <p:cNvGrpSpPr/>
          <p:nvPr/>
        </p:nvGrpSpPr>
        <p:grpSpPr>
          <a:xfrm>
            <a:off x="7921800" y="3978360"/>
            <a:ext cx="394560" cy="253440"/>
            <a:chOff x="7921800" y="3978360"/>
            <a:chExt cx="394560" cy="253440"/>
          </a:xfrm>
        </p:grpSpPr>
        <p:sp>
          <p:nvSpPr>
            <p:cNvPr id="611" name="Oval 35"/>
            <p:cNvSpPr/>
            <p:nvPr/>
          </p:nvSpPr>
          <p:spPr>
            <a:xfrm>
              <a:off x="7921800" y="4195440"/>
              <a:ext cx="58680" cy="36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6"/>
            <p:cNvSpPr/>
            <p:nvPr/>
          </p:nvSpPr>
          <p:spPr>
            <a:xfrm>
              <a:off x="8213400" y="39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Oval 38"/>
          <p:cNvSpPr/>
          <p:nvPr/>
        </p:nvSpPr>
        <p:spPr>
          <a:xfrm>
            <a:off x="7270920" y="6099120"/>
            <a:ext cx="5868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39"/>
          <p:cNvSpPr/>
          <p:nvPr/>
        </p:nvSpPr>
        <p:spPr>
          <a:xfrm>
            <a:off x="6705720" y="5005440"/>
            <a:ext cx="5868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40"/>
          <p:cNvSpPr/>
          <p:nvPr/>
        </p:nvSpPr>
        <p:spPr>
          <a:xfrm>
            <a:off x="6195960" y="5332320"/>
            <a:ext cx="5868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3"/>
          <p:cNvSpPr/>
          <p:nvPr/>
        </p:nvSpPr>
        <p:spPr>
          <a:xfrm>
            <a:off x="7972560" y="4200480"/>
            <a:ext cx="241200" cy="106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42"/>
          <p:cNvSpPr/>
          <p:nvPr/>
        </p:nvSpPr>
        <p:spPr>
          <a:xfrm flipH="1">
            <a:off x="6735600" y="6122880"/>
            <a:ext cx="168768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ая соединительная линия 51"/>
          <p:cNvSpPr/>
          <p:nvPr/>
        </p:nvSpPr>
        <p:spPr>
          <a:xfrm flipV="1">
            <a:off x="5048280" y="5108400"/>
            <a:ext cx="1562040" cy="10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55"/>
          <p:cNvSpPr/>
          <p:nvPr/>
        </p:nvSpPr>
        <p:spPr>
          <a:xfrm>
            <a:off x="8226360" y="5259240"/>
            <a:ext cx="204840" cy="89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67"/>
          <p:cNvSpPr/>
          <p:nvPr/>
        </p:nvSpPr>
        <p:spPr>
          <a:xfrm flipV="1">
            <a:off x="6605640" y="4232160"/>
            <a:ext cx="1346040" cy="868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ая соединительная линия 69"/>
          <p:cNvSpPr/>
          <p:nvPr/>
        </p:nvSpPr>
        <p:spPr>
          <a:xfrm>
            <a:off x="5057640" y="6116760"/>
            <a:ext cx="1687680" cy="6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5"/>
          <p:cNvSpPr/>
          <p:nvPr/>
        </p:nvSpPr>
        <p:spPr>
          <a:xfrm>
            <a:off x="539640" y="154080"/>
            <a:ext cx="8353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64646"/>
                </a:solidFill>
                <a:latin typeface="Comic Sans MS"/>
              </a:rPr>
              <a:t>Центр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Точка пересечения медиан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2631960" y="6122880"/>
            <a:ext cx="64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очка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ересечения медиан треугольника ∆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AB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9"/>
          <p:cNvSpPr/>
          <p:nvPr/>
        </p:nvSpPr>
        <p:spPr>
          <a:xfrm>
            <a:off x="6207120" y="1841400"/>
            <a:ext cx="27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 : G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8"/>
          <p:cNvSpPr/>
          <p:nvPr/>
        </p:nvSpPr>
        <p:spPr>
          <a:xfrm>
            <a:off x="6232680" y="24112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 : G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9"/>
          <p:cNvSpPr/>
          <p:nvPr/>
        </p:nvSpPr>
        <p:spPr>
          <a:xfrm>
            <a:off x="6208560" y="294336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 : G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Группа 1"/>
          <p:cNvGrpSpPr/>
          <p:nvPr/>
        </p:nvGrpSpPr>
        <p:grpSpPr>
          <a:xfrm>
            <a:off x="397440" y="1266840"/>
            <a:ext cx="5894280" cy="4569120"/>
            <a:chOff x="397440" y="1266840"/>
            <a:chExt cx="5894280" cy="4569120"/>
          </a:xfrm>
        </p:grpSpPr>
        <p:sp>
          <p:nvSpPr>
            <p:cNvPr id="628" name="Line 2"/>
            <p:cNvSpPr/>
            <p:nvPr/>
          </p:nvSpPr>
          <p:spPr>
            <a:xfrm>
              <a:off x="1166040" y="5467680"/>
              <a:ext cx="455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"/>
            <p:cNvSpPr/>
            <p:nvPr/>
          </p:nvSpPr>
          <p:spPr>
            <a:xfrm flipV="1">
              <a:off x="1166040" y="1723680"/>
              <a:ext cx="1301760" cy="374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"/>
            <p:cNvSpPr/>
            <p:nvPr/>
          </p:nvSpPr>
          <p:spPr>
            <a:xfrm>
              <a:off x="2467800" y="1724040"/>
              <a:ext cx="3253320" cy="374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606600" y="5324760"/>
              <a:ext cx="4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a1f28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7"/>
            <p:cNvSpPr/>
            <p:nvPr/>
          </p:nvSpPr>
          <p:spPr>
            <a:xfrm>
              <a:off x="5721480" y="5324760"/>
              <a:ext cx="4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a1f28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1"/>
            <p:cNvSpPr/>
            <p:nvPr/>
          </p:nvSpPr>
          <p:spPr>
            <a:xfrm>
              <a:off x="2746800" y="4459320"/>
              <a:ext cx="55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5"/>
            <p:cNvSpPr/>
            <p:nvPr/>
          </p:nvSpPr>
          <p:spPr>
            <a:xfrm>
              <a:off x="2467800" y="1650960"/>
              <a:ext cx="963360" cy="38163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6"/>
            <p:cNvSpPr/>
            <p:nvPr/>
          </p:nvSpPr>
          <p:spPr>
            <a:xfrm>
              <a:off x="1815840" y="3594960"/>
              <a:ext cx="3905280" cy="18716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7"/>
            <p:cNvSpPr/>
            <p:nvPr/>
          </p:nvSpPr>
          <p:spPr>
            <a:xfrm flipH="1">
              <a:off x="1165680" y="3595680"/>
              <a:ext cx="2933640" cy="18842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1153800" y="5467680"/>
              <a:ext cx="2277360" cy="288720"/>
            </a:xfrm>
            <a:custGeom>
              <a:avLst/>
              <a:gdLst/>
              <a:ahLst/>
              <a:rect l="l" t="t" r="r" b="b"/>
              <a:pathLst>
                <a:path w="1088" h="182">
                  <a:moveTo>
                    <a:pt x="0" y="0"/>
                  </a:moveTo>
                  <a:cubicBezTo>
                    <a:pt x="295" y="91"/>
                    <a:pt x="590" y="182"/>
                    <a:pt x="771" y="182"/>
                  </a:cubicBezTo>
                  <a:cubicBezTo>
                    <a:pt x="952" y="182"/>
                    <a:pt x="1035" y="30"/>
                    <a:pt x="1088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flipH="1">
              <a:off x="3417120" y="5467680"/>
              <a:ext cx="2277360" cy="288720"/>
            </a:xfrm>
            <a:custGeom>
              <a:avLst/>
              <a:gdLst/>
              <a:ahLst/>
              <a:rect l="l" t="t" r="r" b="b"/>
              <a:pathLst>
                <a:path w="1088" h="182">
                  <a:moveTo>
                    <a:pt x="0" y="0"/>
                  </a:moveTo>
                  <a:cubicBezTo>
                    <a:pt x="295" y="91"/>
                    <a:pt x="590" y="182"/>
                    <a:pt x="771" y="182"/>
                  </a:cubicBezTo>
                  <a:cubicBezTo>
                    <a:pt x="952" y="182"/>
                    <a:pt x="1035" y="30"/>
                    <a:pt x="1088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>
              <a:off x="1428480" y="1724040"/>
              <a:ext cx="1039320" cy="1871640"/>
            </a:xfrm>
            <a:custGeom>
              <a:avLst/>
              <a:gdLst/>
              <a:ahLst/>
              <a:rect l="l" t="t" r="r" b="b"/>
              <a:pathLst>
                <a:path w="507" h="1179">
                  <a:moveTo>
                    <a:pt x="507" y="0"/>
                  </a:moveTo>
                  <a:cubicBezTo>
                    <a:pt x="306" y="219"/>
                    <a:pt x="106" y="439"/>
                    <a:pt x="53" y="635"/>
                  </a:cubicBezTo>
                  <a:cubicBezTo>
                    <a:pt x="0" y="831"/>
                    <a:pt x="166" y="1088"/>
                    <a:pt x="189" y="1179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2"/>
            <p:cNvSpPr/>
            <p:nvPr/>
          </p:nvSpPr>
          <p:spPr>
            <a:xfrm flipV="1" rot="1784400">
              <a:off x="793080" y="3524040"/>
              <a:ext cx="1039320" cy="1871640"/>
            </a:xfrm>
            <a:custGeom>
              <a:avLst/>
              <a:gdLst/>
              <a:ahLst/>
              <a:rect l="l" t="t" r="r" b="b"/>
              <a:pathLst>
                <a:path w="507" h="1179">
                  <a:moveTo>
                    <a:pt x="507" y="0"/>
                  </a:moveTo>
                  <a:cubicBezTo>
                    <a:pt x="306" y="219"/>
                    <a:pt x="106" y="439"/>
                    <a:pt x="53" y="635"/>
                  </a:cubicBezTo>
                  <a:cubicBezTo>
                    <a:pt x="0" y="831"/>
                    <a:pt x="166" y="1088"/>
                    <a:pt x="189" y="1179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3"/>
            <p:cNvSpPr/>
            <p:nvPr/>
          </p:nvSpPr>
          <p:spPr>
            <a:xfrm rot="21540000">
              <a:off x="2511000" y="1724040"/>
              <a:ext cx="1658520" cy="1871640"/>
            </a:xfrm>
            <a:custGeom>
              <a:avLst/>
              <a:gdLst/>
              <a:ahLst/>
              <a:rect l="l" t="t" r="r" b="b"/>
              <a:pathLst>
                <a:path w="809" h="1179">
                  <a:moveTo>
                    <a:pt x="0" y="0"/>
                  </a:moveTo>
                  <a:cubicBezTo>
                    <a:pt x="275" y="151"/>
                    <a:pt x="551" y="302"/>
                    <a:pt x="680" y="499"/>
                  </a:cubicBezTo>
                  <a:cubicBezTo>
                    <a:pt x="809" y="696"/>
                    <a:pt x="756" y="1066"/>
                    <a:pt x="771" y="1179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"/>
            <p:cNvSpPr/>
            <p:nvPr/>
          </p:nvSpPr>
          <p:spPr>
            <a:xfrm flipH="1" rot="6759000">
              <a:off x="4286520" y="3271320"/>
              <a:ext cx="1284120" cy="2417400"/>
            </a:xfrm>
            <a:custGeom>
              <a:avLst/>
              <a:gdLst/>
              <a:ahLst/>
              <a:rect l="l" t="t" r="r" b="b"/>
              <a:pathLst>
                <a:path w="809" h="1179">
                  <a:moveTo>
                    <a:pt x="0" y="0"/>
                  </a:moveTo>
                  <a:cubicBezTo>
                    <a:pt x="275" y="151"/>
                    <a:pt x="551" y="302"/>
                    <a:pt x="680" y="499"/>
                  </a:cubicBezTo>
                  <a:cubicBezTo>
                    <a:pt x="809" y="696"/>
                    <a:pt x="756" y="1066"/>
                    <a:pt x="771" y="1179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32"/>
            <p:cNvSpPr/>
            <p:nvPr/>
          </p:nvSpPr>
          <p:spPr>
            <a:xfrm>
              <a:off x="3211920" y="5467680"/>
              <a:ext cx="6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6600"/>
                  </a:solidFill>
                  <a:latin typeface="Arial"/>
                </a:rPr>
                <a:t>С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33"/>
            <p:cNvGrpSpPr/>
            <p:nvPr/>
          </p:nvGrpSpPr>
          <p:grpSpPr>
            <a:xfrm>
              <a:off x="1416240" y="4395960"/>
              <a:ext cx="198720" cy="180360"/>
              <a:chOff x="1416240" y="4395960"/>
              <a:chExt cx="198720" cy="180360"/>
            </a:xfrm>
          </p:grpSpPr>
          <p:sp>
            <p:nvSpPr>
              <p:cNvPr id="645" name="Line 34"/>
              <p:cNvSpPr/>
              <p:nvPr/>
            </p:nvSpPr>
            <p:spPr>
              <a:xfrm flipH="1" flipV="1">
                <a:off x="1455120" y="4395960"/>
                <a:ext cx="159840" cy="141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35"/>
              <p:cNvSpPr/>
              <p:nvPr/>
            </p:nvSpPr>
            <p:spPr>
              <a:xfrm flipH="1" flipV="1">
                <a:off x="1416240" y="4435560"/>
                <a:ext cx="159840" cy="14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Line 36"/>
            <p:cNvSpPr/>
            <p:nvPr/>
          </p:nvSpPr>
          <p:spPr>
            <a:xfrm flipH="1">
              <a:off x="2413800" y="5370480"/>
              <a:ext cx="198000" cy="19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7"/>
            <p:cNvGrpSpPr/>
            <p:nvPr/>
          </p:nvGrpSpPr>
          <p:grpSpPr>
            <a:xfrm>
              <a:off x="3039120" y="2477880"/>
              <a:ext cx="333000" cy="209880"/>
              <a:chOff x="3039120" y="2477880"/>
              <a:chExt cx="333000" cy="209880"/>
            </a:xfrm>
          </p:grpSpPr>
          <p:grpSp>
            <p:nvGrpSpPr>
              <p:cNvPr id="649" name="Group 38"/>
              <p:cNvGrpSpPr/>
              <p:nvPr/>
            </p:nvGrpSpPr>
            <p:grpSpPr>
              <a:xfrm>
                <a:off x="3039120" y="2477880"/>
                <a:ext cx="282960" cy="133920"/>
                <a:chOff x="3039120" y="2477880"/>
                <a:chExt cx="282960" cy="133920"/>
              </a:xfrm>
            </p:grpSpPr>
            <p:sp>
              <p:nvSpPr>
                <p:cNvPr id="650" name="Line 39"/>
                <p:cNvSpPr/>
                <p:nvPr/>
              </p:nvSpPr>
              <p:spPr>
                <a:xfrm flipH="1">
                  <a:off x="3039120" y="2477880"/>
                  <a:ext cx="27072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40"/>
                <p:cNvSpPr/>
                <p:nvPr/>
              </p:nvSpPr>
              <p:spPr>
                <a:xfrm flipH="1">
                  <a:off x="3051000" y="2548800"/>
                  <a:ext cx="27108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41"/>
              <p:cNvSpPr/>
              <p:nvPr/>
            </p:nvSpPr>
            <p:spPr>
              <a:xfrm flipH="1">
                <a:off x="3101760" y="2624760"/>
                <a:ext cx="27036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Line 42"/>
            <p:cNvSpPr/>
            <p:nvPr/>
          </p:nvSpPr>
          <p:spPr>
            <a:xfrm flipH="1">
              <a:off x="4460040" y="5370480"/>
              <a:ext cx="198000" cy="19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43"/>
            <p:cNvGrpSpPr/>
            <p:nvPr/>
          </p:nvGrpSpPr>
          <p:grpSpPr>
            <a:xfrm>
              <a:off x="2017080" y="2668680"/>
              <a:ext cx="198720" cy="180360"/>
              <a:chOff x="2017080" y="2668680"/>
              <a:chExt cx="198720" cy="180360"/>
            </a:xfrm>
          </p:grpSpPr>
          <p:sp>
            <p:nvSpPr>
              <p:cNvPr id="655" name="Line 44"/>
              <p:cNvSpPr/>
              <p:nvPr/>
            </p:nvSpPr>
            <p:spPr>
              <a:xfrm flipH="1" flipV="1">
                <a:off x="2055960" y="2668680"/>
                <a:ext cx="159840" cy="141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45"/>
              <p:cNvSpPr/>
              <p:nvPr/>
            </p:nvSpPr>
            <p:spPr>
              <a:xfrm flipH="1" flipV="1">
                <a:off x="2017080" y="2708280"/>
                <a:ext cx="159840" cy="14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46"/>
            <p:cNvSpPr/>
            <p:nvPr/>
          </p:nvSpPr>
          <p:spPr>
            <a:xfrm>
              <a:off x="1166040" y="3308400"/>
              <a:ext cx="6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6600"/>
                  </a:solidFill>
                  <a:latin typeface="Arial"/>
                </a:rPr>
                <a:t>В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47"/>
            <p:cNvSpPr/>
            <p:nvPr/>
          </p:nvSpPr>
          <p:spPr>
            <a:xfrm>
              <a:off x="4048560" y="3235320"/>
              <a:ext cx="6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6600"/>
                  </a:solidFill>
                  <a:latin typeface="Arial"/>
                </a:rPr>
                <a:t>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48"/>
            <p:cNvGrpSpPr/>
            <p:nvPr/>
          </p:nvGrpSpPr>
          <p:grpSpPr>
            <a:xfrm>
              <a:off x="4806360" y="4494240"/>
              <a:ext cx="333000" cy="209880"/>
              <a:chOff x="4806360" y="4494240"/>
              <a:chExt cx="333000" cy="209880"/>
            </a:xfrm>
          </p:grpSpPr>
          <p:grpSp>
            <p:nvGrpSpPr>
              <p:cNvPr id="660" name="Group 49"/>
              <p:cNvGrpSpPr/>
              <p:nvPr/>
            </p:nvGrpSpPr>
            <p:grpSpPr>
              <a:xfrm>
                <a:off x="4806360" y="4494240"/>
                <a:ext cx="282960" cy="133920"/>
                <a:chOff x="4806360" y="4494240"/>
                <a:chExt cx="282960" cy="133920"/>
              </a:xfrm>
            </p:grpSpPr>
            <p:sp>
              <p:nvSpPr>
                <p:cNvPr id="661" name="Line 50"/>
                <p:cNvSpPr/>
                <p:nvPr/>
              </p:nvSpPr>
              <p:spPr>
                <a:xfrm flipH="1">
                  <a:off x="4806360" y="4494240"/>
                  <a:ext cx="27072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51"/>
                <p:cNvSpPr/>
                <p:nvPr/>
              </p:nvSpPr>
              <p:spPr>
                <a:xfrm flipH="1">
                  <a:off x="4818240" y="4565160"/>
                  <a:ext cx="27108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52"/>
              <p:cNvSpPr/>
              <p:nvPr/>
            </p:nvSpPr>
            <p:spPr>
              <a:xfrm flipH="1">
                <a:off x="4869000" y="4641120"/>
                <a:ext cx="27036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Arc 55"/>
            <p:cNvSpPr/>
            <p:nvPr/>
          </p:nvSpPr>
          <p:spPr>
            <a:xfrm rot="1513200">
              <a:off x="2824560" y="4203720"/>
              <a:ext cx="963360" cy="1222200"/>
            </a:xfrm>
            <a:custGeom>
              <a:avLst/>
              <a:gdLst/>
              <a:ahLst/>
              <a:rect l="l" t="t" r="r" b="b"/>
              <a:pathLst>
                <a:path fill="none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</a:path>
                <a:path stroke="0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  <a:lnTo>
                    <a:pt x="10352" y="21600"/>
                  </a:lnTo>
                  <a:lnTo>
                    <a:pt x="0" y="2642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56"/>
            <p:cNvSpPr/>
            <p:nvPr/>
          </p:nvSpPr>
          <p:spPr>
            <a:xfrm rot="1513200">
              <a:off x="2488320" y="2948040"/>
              <a:ext cx="963360" cy="1222200"/>
            </a:xfrm>
            <a:custGeom>
              <a:avLst/>
              <a:gdLst/>
              <a:ahLst/>
              <a:rect l="l" t="t" r="r" b="b"/>
              <a:pathLst>
                <a:path fill="none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</a:path>
                <a:path stroke="0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  <a:lnTo>
                    <a:pt x="10352" y="21600"/>
                  </a:lnTo>
                  <a:lnTo>
                    <a:pt x="0" y="2642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rc 57"/>
            <p:cNvSpPr/>
            <p:nvPr/>
          </p:nvSpPr>
          <p:spPr>
            <a:xfrm rot="1513200">
              <a:off x="2176920" y="1687320"/>
              <a:ext cx="963360" cy="1222200"/>
            </a:xfrm>
            <a:custGeom>
              <a:avLst/>
              <a:gdLst/>
              <a:ahLst/>
              <a:rect l="l" t="t" r="r" b="b"/>
              <a:pathLst>
                <a:path fill="none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</a:path>
                <a:path stroke="0" w="31926" h="21600">
                  <a:moveTo>
                    <a:pt x="0" y="2642"/>
                  </a:moveTo>
                  <a:cubicBezTo>
                    <a:pt x="3175" y="908"/>
                    <a:pt x="6734" y="-1"/>
                    <a:pt x="10352" y="0"/>
                  </a:cubicBezTo>
                  <a:cubicBezTo>
                    <a:pt x="21867" y="0"/>
                    <a:pt x="31358" y="9034"/>
                    <a:pt x="31925" y="20536"/>
                  </a:cubicBezTo>
                  <a:lnTo>
                    <a:pt x="10352" y="21600"/>
                  </a:lnTo>
                  <a:lnTo>
                    <a:pt x="0" y="2642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2746800" y="2911320"/>
              <a:ext cx="100440" cy="77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rc 60"/>
            <p:cNvSpPr/>
            <p:nvPr/>
          </p:nvSpPr>
          <p:spPr>
            <a:xfrm>
              <a:off x="1815840" y="3595680"/>
              <a:ext cx="1301760" cy="623880"/>
            </a:xfrm>
            <a:custGeom>
              <a:avLst/>
              <a:gdLst/>
              <a:ahLst/>
              <a:rect l="l" t="t" r="r" b="b"/>
              <a:pathLst>
                <a:path fill="none" w="21600" h="2337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192"/>
                    <a:pt x="21575" y="22785"/>
                    <a:pt x="21526" y="23375"/>
                  </a:cubicBezTo>
                </a:path>
                <a:path stroke="0" w="21600" h="2337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192"/>
                    <a:pt x="21575" y="22785"/>
                    <a:pt x="21526" y="2337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61"/>
            <p:cNvSpPr/>
            <p:nvPr/>
          </p:nvSpPr>
          <p:spPr>
            <a:xfrm>
              <a:off x="3101400" y="4172040"/>
              <a:ext cx="1301760" cy="662040"/>
            </a:xfrm>
            <a:custGeom>
              <a:avLst/>
              <a:gdLst/>
              <a:ahLst/>
              <a:rect l="l" t="t" r="r" b="b"/>
              <a:pathLst>
                <a:path fill="none" w="21600" h="2477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64"/>
                    <a:pt x="21521" y="23726"/>
                    <a:pt x="21364" y="24778"/>
                  </a:cubicBezTo>
                </a:path>
                <a:path stroke="0" w="21600" h="2477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64"/>
                    <a:pt x="21521" y="23726"/>
                    <a:pt x="21364" y="247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rc 62"/>
            <p:cNvSpPr/>
            <p:nvPr/>
          </p:nvSpPr>
          <p:spPr>
            <a:xfrm>
              <a:off x="4419720" y="4819680"/>
              <a:ext cx="1301760" cy="623880"/>
            </a:xfrm>
            <a:custGeom>
              <a:avLst/>
              <a:gdLst/>
              <a:ahLst/>
              <a:rect l="l" t="t" r="r" b="b"/>
              <a:pathLst>
                <a:path fill="none" w="21600" h="2337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192"/>
                    <a:pt x="21575" y="22785"/>
                    <a:pt x="21526" y="23375"/>
                  </a:cubicBezTo>
                </a:path>
                <a:path stroke="0" w="21600" h="2337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192"/>
                    <a:pt x="21575" y="22785"/>
                    <a:pt x="21526" y="2337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rc 63"/>
            <p:cNvSpPr/>
            <p:nvPr/>
          </p:nvSpPr>
          <p:spPr>
            <a:xfrm flipH="1">
              <a:off x="3117240" y="3595680"/>
              <a:ext cx="930600" cy="64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rc 64"/>
            <p:cNvSpPr/>
            <p:nvPr/>
          </p:nvSpPr>
          <p:spPr>
            <a:xfrm flipH="1">
              <a:off x="1167480" y="4837320"/>
              <a:ext cx="969480" cy="647640"/>
            </a:xfrm>
            <a:custGeom>
              <a:avLst/>
              <a:gdLst/>
              <a:ahLst/>
              <a:rect l="l" t="t" r="r" b="b"/>
              <a:pathLst>
                <a:path fill="none" w="22537" h="21600">
                  <a:moveTo>
                    <a:pt x="-1" y="21"/>
                  </a:moveTo>
                  <a:cubicBezTo>
                    <a:pt x="323" y="7"/>
                    <a:pt x="647" y="-1"/>
                    <a:pt x="972" y="0"/>
                  </a:cubicBezTo>
                  <a:cubicBezTo>
                    <a:pt x="12424" y="0"/>
                    <a:pt x="21885" y="8938"/>
                    <a:pt x="22537" y="20371"/>
                  </a:cubicBezTo>
                </a:path>
                <a:path stroke="0" w="22537" h="21600">
                  <a:moveTo>
                    <a:pt x="-1" y="21"/>
                  </a:moveTo>
                  <a:cubicBezTo>
                    <a:pt x="323" y="7"/>
                    <a:pt x="647" y="-1"/>
                    <a:pt x="972" y="0"/>
                  </a:cubicBezTo>
                  <a:cubicBezTo>
                    <a:pt x="12424" y="0"/>
                    <a:pt x="21885" y="8938"/>
                    <a:pt x="22537" y="20371"/>
                  </a:cubicBezTo>
                  <a:lnTo>
                    <a:pt x="972" y="21600"/>
                  </a:lnTo>
                  <a:lnTo>
                    <a:pt x="-1" y="21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rc 65"/>
            <p:cNvSpPr/>
            <p:nvPr/>
          </p:nvSpPr>
          <p:spPr>
            <a:xfrm flipH="1">
              <a:off x="2139120" y="4192560"/>
              <a:ext cx="971640" cy="647640"/>
            </a:xfrm>
            <a:custGeom>
              <a:avLst/>
              <a:gdLst/>
              <a:ahLst/>
              <a:rect l="l" t="t" r="r" b="b"/>
              <a:pathLst>
                <a:path fill="none" w="22547" h="21600">
                  <a:moveTo>
                    <a:pt x="-1" y="20"/>
                  </a:moveTo>
                  <a:cubicBezTo>
                    <a:pt x="315" y="6"/>
                    <a:pt x="631" y="-1"/>
                    <a:pt x="947" y="0"/>
                  </a:cubicBezTo>
                  <a:cubicBezTo>
                    <a:pt x="12876" y="0"/>
                    <a:pt x="22547" y="9670"/>
                    <a:pt x="22547" y="21600"/>
                  </a:cubicBezTo>
                </a:path>
                <a:path stroke="0" w="22547" h="21600">
                  <a:moveTo>
                    <a:pt x="-1" y="20"/>
                  </a:moveTo>
                  <a:cubicBezTo>
                    <a:pt x="315" y="6"/>
                    <a:pt x="631" y="-1"/>
                    <a:pt x="947" y="0"/>
                  </a:cubicBezTo>
                  <a:cubicBezTo>
                    <a:pt x="12876" y="0"/>
                    <a:pt x="22547" y="9670"/>
                    <a:pt x="22547" y="21600"/>
                  </a:cubicBezTo>
                  <a:lnTo>
                    <a:pt x="947" y="21600"/>
                  </a:lnTo>
                  <a:lnTo>
                    <a:pt x="-1" y="20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6"/>
            <p:cNvSpPr/>
            <p:nvPr/>
          </p:nvSpPr>
          <p:spPr>
            <a:xfrm>
              <a:off x="2088720" y="4813560"/>
              <a:ext cx="100440" cy="77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7"/>
            <p:cNvSpPr/>
            <p:nvPr/>
          </p:nvSpPr>
          <p:spPr>
            <a:xfrm>
              <a:off x="4352040" y="4794480"/>
              <a:ext cx="100440" cy="77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70"/>
            <p:cNvSpPr/>
            <p:nvPr/>
          </p:nvSpPr>
          <p:spPr>
            <a:xfrm>
              <a:off x="3060360" y="4172040"/>
              <a:ext cx="10044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1"/>
            <p:cNvSpPr/>
            <p:nvPr/>
          </p:nvSpPr>
          <p:spPr>
            <a:xfrm rot="15706800">
              <a:off x="4041360" y="3525120"/>
              <a:ext cx="107640" cy="139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72"/>
            <p:cNvSpPr/>
            <p:nvPr/>
          </p:nvSpPr>
          <p:spPr>
            <a:xfrm rot="15706800">
              <a:off x="1759680" y="3542760"/>
              <a:ext cx="107640" cy="139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3"/>
            <p:cNvSpPr/>
            <p:nvPr/>
          </p:nvSpPr>
          <p:spPr>
            <a:xfrm rot="15706800">
              <a:off x="3381480" y="5403240"/>
              <a:ext cx="107640" cy="139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4"/>
            <p:cNvSpPr/>
            <p:nvPr/>
          </p:nvSpPr>
          <p:spPr>
            <a:xfrm rot="15706800">
              <a:off x="1109880" y="5378040"/>
              <a:ext cx="107640" cy="139320"/>
            </a:xfrm>
            <a:prstGeom prst="ellipse">
              <a:avLst/>
            </a:prstGeom>
            <a:solidFill>
              <a:srgbClr val="da1f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5"/>
            <p:cNvSpPr/>
            <p:nvPr/>
          </p:nvSpPr>
          <p:spPr>
            <a:xfrm rot="15706800">
              <a:off x="5658840" y="5385960"/>
              <a:ext cx="107640" cy="139320"/>
            </a:xfrm>
            <a:prstGeom prst="ellipse">
              <a:avLst/>
            </a:prstGeom>
            <a:solidFill>
              <a:srgbClr val="da1f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8"/>
            <p:cNvSpPr/>
            <p:nvPr/>
          </p:nvSpPr>
          <p:spPr>
            <a:xfrm rot="15706800">
              <a:off x="2415600" y="1634400"/>
              <a:ext cx="107640" cy="139320"/>
            </a:xfrm>
            <a:prstGeom prst="ellipse">
              <a:avLst/>
            </a:prstGeom>
            <a:solidFill>
              <a:srgbClr val="da1f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79"/>
            <p:cNvSpPr/>
            <p:nvPr/>
          </p:nvSpPr>
          <p:spPr>
            <a:xfrm>
              <a:off x="2002680" y="1266840"/>
              <a:ext cx="4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a1f28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82"/>
          <p:cNvSpPr/>
          <p:nvPr/>
        </p:nvSpPr>
        <p:spPr>
          <a:xfrm>
            <a:off x="4048200" y="5726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– основания медиан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ABC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Cordia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19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7"/>
          <p:cNvSpPr/>
          <p:nvPr/>
        </p:nvSpPr>
        <p:spPr>
          <a:xfrm>
            <a:off x="611280" y="369720"/>
            <a:ext cx="4954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Comic Sans MS"/>
              </a:rPr>
              <a:t>Ин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Точка пересечения биссектрис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7"/>
          <p:cNvSpPr/>
          <p:nvPr/>
        </p:nvSpPr>
        <p:spPr>
          <a:xfrm>
            <a:off x="4062240" y="2009880"/>
            <a:ext cx="2605320" cy="260496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97"/>
          <p:cNvSpPr/>
          <p:nvPr/>
        </p:nvSpPr>
        <p:spPr>
          <a:xfrm>
            <a:off x="1332000" y="5173560"/>
            <a:ext cx="71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M, N, P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– основания биссектрис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8"/>
          <p:cNvSpPr/>
          <p:nvPr/>
        </p:nvSpPr>
        <p:spPr>
          <a:xfrm>
            <a:off x="1547640" y="56228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– центр окружности, вписанной в ∆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Группа 1"/>
          <p:cNvGrpSpPr/>
          <p:nvPr/>
        </p:nvGrpSpPr>
        <p:grpSpPr>
          <a:xfrm>
            <a:off x="755640" y="932040"/>
            <a:ext cx="6480360" cy="4203000"/>
            <a:chOff x="755640" y="932040"/>
            <a:chExt cx="6480360" cy="4203000"/>
          </a:xfrm>
        </p:grpSpPr>
        <p:sp>
          <p:nvSpPr>
            <p:cNvPr id="690" name="Rectangle 75"/>
            <p:cNvSpPr/>
            <p:nvPr/>
          </p:nvSpPr>
          <p:spPr>
            <a:xfrm>
              <a:off x="5400720" y="4367520"/>
              <a:ext cx="252360" cy="252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77"/>
            <p:cNvSpPr/>
            <p:nvPr/>
          </p:nvSpPr>
          <p:spPr>
            <a:xfrm flipH="1">
              <a:off x="5408640" y="3284640"/>
              <a:ext cx="2880" cy="1296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78"/>
            <p:cNvSpPr/>
            <p:nvPr/>
          </p:nvSpPr>
          <p:spPr>
            <a:xfrm rot="3360000">
              <a:off x="4511160" y="2260800"/>
              <a:ext cx="252360" cy="252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79"/>
            <p:cNvSpPr/>
            <p:nvPr/>
          </p:nvSpPr>
          <p:spPr>
            <a:xfrm rot="20940000">
              <a:off x="6432840" y="3090600"/>
              <a:ext cx="252360" cy="252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80"/>
            <p:cNvSpPr/>
            <p:nvPr/>
          </p:nvSpPr>
          <p:spPr>
            <a:xfrm flipH="1" flipV="1">
              <a:off x="4678200" y="2207520"/>
              <a:ext cx="721800" cy="10782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84"/>
            <p:cNvSpPr/>
            <p:nvPr/>
          </p:nvSpPr>
          <p:spPr>
            <a:xfrm>
              <a:off x="755640" y="428652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a1f2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85"/>
            <p:cNvSpPr/>
            <p:nvPr/>
          </p:nvSpPr>
          <p:spPr>
            <a:xfrm>
              <a:off x="6897960" y="4365720"/>
              <a:ext cx="3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a1f28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86"/>
            <p:cNvSpPr/>
            <p:nvPr/>
          </p:nvSpPr>
          <p:spPr>
            <a:xfrm>
              <a:off x="5964480" y="93204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a1f28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88"/>
            <p:cNvSpPr/>
            <p:nvPr/>
          </p:nvSpPr>
          <p:spPr>
            <a:xfrm>
              <a:off x="5220000" y="263700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91"/>
            <p:cNvSpPr/>
            <p:nvPr/>
          </p:nvSpPr>
          <p:spPr>
            <a:xfrm>
              <a:off x="6733080" y="26370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99"/>
            <p:cNvSpPr/>
            <p:nvPr/>
          </p:nvSpPr>
          <p:spPr>
            <a:xfrm flipV="1">
              <a:off x="5435640" y="3068280"/>
              <a:ext cx="1216080" cy="2314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rc 152"/>
            <p:cNvSpPr/>
            <p:nvPr/>
          </p:nvSpPr>
          <p:spPr>
            <a:xfrm>
              <a:off x="2268360" y="3791160"/>
              <a:ext cx="215640" cy="376200"/>
            </a:xfrm>
            <a:custGeom>
              <a:avLst/>
              <a:gdLst/>
              <a:ahLst/>
              <a:rect l="l" t="t" r="r" b="b"/>
              <a:pathLst>
                <a:path fill="none" w="21600" h="225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29"/>
                    <a:pt x="21592" y="22258"/>
                    <a:pt x="21577" y="22587"/>
                  </a:cubicBezTo>
                </a:path>
                <a:path stroke="0" w="21600" h="225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29"/>
                    <a:pt x="21592" y="22258"/>
                    <a:pt x="21577" y="2258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rc 154"/>
            <p:cNvSpPr/>
            <p:nvPr/>
          </p:nvSpPr>
          <p:spPr>
            <a:xfrm rot="807000">
              <a:off x="2340000" y="4221360"/>
              <a:ext cx="215640" cy="376200"/>
            </a:xfrm>
            <a:custGeom>
              <a:avLst/>
              <a:gdLst/>
              <a:ahLst/>
              <a:rect l="l" t="t" r="r" b="b"/>
              <a:pathLst>
                <a:path fill="none" w="21600" h="225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29"/>
                    <a:pt x="21592" y="22258"/>
                    <a:pt x="21577" y="22587"/>
                  </a:cubicBezTo>
                </a:path>
                <a:path stroke="0" w="21600" h="225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29"/>
                    <a:pt x="21592" y="22258"/>
                    <a:pt x="21577" y="2258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190"/>
            <p:cNvGrpSpPr/>
            <p:nvPr/>
          </p:nvGrpSpPr>
          <p:grpSpPr>
            <a:xfrm>
              <a:off x="5631840" y="1390680"/>
              <a:ext cx="478440" cy="448200"/>
              <a:chOff x="5631840" y="1390680"/>
              <a:chExt cx="478440" cy="448200"/>
            </a:xfrm>
          </p:grpSpPr>
          <p:sp>
            <p:nvSpPr>
              <p:cNvPr id="704" name="Arc 155"/>
              <p:cNvSpPr/>
              <p:nvPr/>
            </p:nvSpPr>
            <p:spPr>
              <a:xfrm flipH="1" rot="15627000">
                <a:off x="5687640" y="1487160"/>
                <a:ext cx="288720" cy="358560"/>
              </a:xfrm>
              <a:custGeom>
                <a:avLst/>
                <a:gdLst/>
                <a:ahLst/>
                <a:rect l="l" t="t" r="r" b="b"/>
                <a:pathLst>
                  <a:path fill="none" w="21600" h="21508">
                    <a:moveTo>
                      <a:pt x="1989" y="-1"/>
                    </a:moveTo>
                    <a:cubicBezTo>
                      <a:pt x="13100" y="1027"/>
                      <a:pt x="21600" y="10349"/>
                      <a:pt x="21600" y="21508"/>
                    </a:cubicBezTo>
                  </a:path>
                  <a:path stroke="0" w="21600" h="21508">
                    <a:moveTo>
                      <a:pt x="1989" y="-1"/>
                    </a:moveTo>
                    <a:cubicBezTo>
                      <a:pt x="13100" y="1027"/>
                      <a:pt x="21600" y="10349"/>
                      <a:pt x="21600" y="21508"/>
                    </a:cubicBezTo>
                    <a:lnTo>
                      <a:pt x="0" y="21508"/>
                    </a:lnTo>
                    <a:lnTo>
                      <a:pt x="1989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156"/>
              <p:cNvSpPr/>
              <p:nvPr/>
            </p:nvSpPr>
            <p:spPr>
              <a:xfrm flipH="1" rot="15627000">
                <a:off x="5769360" y="1385640"/>
                <a:ext cx="287280" cy="350640"/>
              </a:xfrm>
              <a:custGeom>
                <a:avLst/>
                <a:gdLst/>
                <a:ahLst/>
                <a:rect l="l" t="t" r="r" b="b"/>
                <a:pathLst>
                  <a:path fill="none" w="21461" h="21028">
                    <a:moveTo>
                      <a:pt x="4938" y="0"/>
                    </a:moveTo>
                    <a:cubicBezTo>
                      <a:pt x="13817" y="2085"/>
                      <a:pt x="20428" y="9521"/>
                      <a:pt x="21461" y="18582"/>
                    </a:cubicBezTo>
                  </a:path>
                  <a:path stroke="0" w="21461" h="21028">
                    <a:moveTo>
                      <a:pt x="4938" y="0"/>
                    </a:moveTo>
                    <a:cubicBezTo>
                      <a:pt x="13817" y="2085"/>
                      <a:pt x="20428" y="9521"/>
                      <a:pt x="21461" y="18582"/>
                    </a:cubicBezTo>
                    <a:lnTo>
                      <a:pt x="0" y="21028"/>
                    </a:lnTo>
                    <a:lnTo>
                      <a:pt x="4938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91"/>
            <p:cNvGrpSpPr/>
            <p:nvPr/>
          </p:nvGrpSpPr>
          <p:grpSpPr>
            <a:xfrm>
              <a:off x="5976720" y="1619280"/>
              <a:ext cx="467280" cy="439560"/>
              <a:chOff x="5976720" y="1619280"/>
              <a:chExt cx="467280" cy="439560"/>
            </a:xfrm>
          </p:grpSpPr>
          <p:sp>
            <p:nvSpPr>
              <p:cNvPr id="707" name="Arc 157"/>
              <p:cNvSpPr/>
              <p:nvPr/>
            </p:nvSpPr>
            <p:spPr>
              <a:xfrm flipH="1" rot="15993000">
                <a:off x="6066000" y="1675800"/>
                <a:ext cx="288360" cy="450720"/>
              </a:xfrm>
              <a:custGeom>
                <a:avLst/>
                <a:gdLst/>
                <a:ahLst/>
                <a:rect l="l" t="t" r="r" b="b"/>
                <a:pathLst>
                  <a:path fill="none" w="21600" h="27030">
                    <a:moveTo>
                      <a:pt x="10068" y="0"/>
                    </a:moveTo>
                    <a:cubicBezTo>
                      <a:pt x="17160" y="3737"/>
                      <a:pt x="21600" y="11093"/>
                      <a:pt x="21600" y="19110"/>
                    </a:cubicBezTo>
                    <a:cubicBezTo>
                      <a:pt x="21600" y="21820"/>
                      <a:pt x="21089" y="24507"/>
                      <a:pt x="20095" y="27029"/>
                    </a:cubicBezTo>
                  </a:path>
                  <a:path stroke="0" w="21600" h="27030">
                    <a:moveTo>
                      <a:pt x="10068" y="0"/>
                    </a:moveTo>
                    <a:cubicBezTo>
                      <a:pt x="17160" y="3737"/>
                      <a:pt x="21600" y="11093"/>
                      <a:pt x="21600" y="19110"/>
                    </a:cubicBezTo>
                    <a:cubicBezTo>
                      <a:pt x="21600" y="21820"/>
                      <a:pt x="21089" y="24507"/>
                      <a:pt x="20095" y="27029"/>
                    </a:cubicBezTo>
                    <a:lnTo>
                      <a:pt x="0" y="19110"/>
                    </a:lnTo>
                    <a:lnTo>
                      <a:pt x="10068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rc 158"/>
              <p:cNvSpPr/>
              <p:nvPr/>
            </p:nvSpPr>
            <p:spPr>
              <a:xfrm flipH="1" rot="15273000">
                <a:off x="6066000" y="1622160"/>
                <a:ext cx="288720" cy="371160"/>
              </a:xfrm>
              <a:custGeom>
                <a:avLst/>
                <a:gdLst/>
                <a:ahLst/>
                <a:rect l="l" t="t" r="r" b="b"/>
                <a:pathLst>
                  <a:path fill="none" w="21600" h="22249">
                    <a:moveTo>
                      <a:pt x="4938" y="0"/>
                    </a:moveTo>
                    <a:cubicBezTo>
                      <a:pt x="14700" y="2292"/>
                      <a:pt x="21600" y="11001"/>
                      <a:pt x="21600" y="21028"/>
                    </a:cubicBezTo>
                    <a:cubicBezTo>
                      <a:pt x="21600" y="21435"/>
                      <a:pt x="21588" y="21842"/>
                      <a:pt x="21565" y="22249"/>
                    </a:cubicBezTo>
                  </a:path>
                  <a:path stroke="0" w="21600" h="22249">
                    <a:moveTo>
                      <a:pt x="4938" y="0"/>
                    </a:moveTo>
                    <a:cubicBezTo>
                      <a:pt x="14700" y="2292"/>
                      <a:pt x="21600" y="11001"/>
                      <a:pt x="21600" y="21028"/>
                    </a:cubicBezTo>
                    <a:cubicBezTo>
                      <a:pt x="21600" y="21435"/>
                      <a:pt x="21588" y="21842"/>
                      <a:pt x="21565" y="22249"/>
                    </a:cubicBezTo>
                    <a:lnTo>
                      <a:pt x="0" y="21028"/>
                    </a:lnTo>
                    <a:lnTo>
                      <a:pt x="4938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88"/>
            <p:cNvGrpSpPr/>
            <p:nvPr/>
          </p:nvGrpSpPr>
          <p:grpSpPr>
            <a:xfrm>
              <a:off x="6431760" y="3949560"/>
              <a:ext cx="514800" cy="487440"/>
              <a:chOff x="6431760" y="3949560"/>
              <a:chExt cx="514800" cy="487440"/>
            </a:xfrm>
          </p:grpSpPr>
          <p:sp>
            <p:nvSpPr>
              <p:cNvPr id="710" name="Arc 160"/>
              <p:cNvSpPr/>
              <p:nvPr/>
            </p:nvSpPr>
            <p:spPr>
              <a:xfrm flipH="1">
                <a:off x="6594480" y="4149720"/>
                <a:ext cx="282240" cy="144360"/>
              </a:xfrm>
              <a:custGeom>
                <a:avLst/>
                <a:gdLst/>
                <a:ahLst/>
                <a:rect l="l" t="t" r="r" b="b"/>
                <a:pathLst>
                  <a:path fill="none" w="21295" h="21600">
                    <a:moveTo>
                      <a:pt x="-1" y="0"/>
                    </a:moveTo>
                    <a:cubicBezTo>
                      <a:pt x="10533" y="0"/>
                      <a:pt x="19531" y="7598"/>
                      <a:pt x="21295" y="17982"/>
                    </a:cubicBezTo>
                  </a:path>
                  <a:path stroke="0" w="21295" h="21600">
                    <a:moveTo>
                      <a:pt x="-1" y="0"/>
                    </a:moveTo>
                    <a:cubicBezTo>
                      <a:pt x="10533" y="0"/>
                      <a:pt x="19531" y="7598"/>
                      <a:pt x="21295" y="1798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rc 161"/>
              <p:cNvSpPr/>
              <p:nvPr/>
            </p:nvSpPr>
            <p:spPr>
              <a:xfrm flipH="1">
                <a:off x="6703920" y="4295880"/>
                <a:ext cx="242640" cy="141120"/>
              </a:xfrm>
              <a:custGeom>
                <a:avLst/>
                <a:gdLst/>
                <a:ahLst/>
                <a:rect l="l" t="t" r="r" b="b"/>
                <a:pathLst>
                  <a:path fill="none" w="18236" h="21074">
                    <a:moveTo>
                      <a:pt x="4739" y="0"/>
                    </a:moveTo>
                    <a:cubicBezTo>
                      <a:pt x="10318" y="1255"/>
                      <a:pt x="15171" y="4670"/>
                      <a:pt x="18236" y="9497"/>
                    </a:cubicBezTo>
                  </a:path>
                  <a:path stroke="0" w="18236" h="21074">
                    <a:moveTo>
                      <a:pt x="4739" y="0"/>
                    </a:moveTo>
                    <a:cubicBezTo>
                      <a:pt x="10318" y="1255"/>
                      <a:pt x="15171" y="4670"/>
                      <a:pt x="18236" y="9497"/>
                    </a:cubicBezTo>
                    <a:lnTo>
                      <a:pt x="0" y="21074"/>
                    </a:lnTo>
                    <a:lnTo>
                      <a:pt x="4739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rc 162"/>
              <p:cNvSpPr/>
              <p:nvPr/>
            </p:nvSpPr>
            <p:spPr>
              <a:xfrm flipH="1" rot="20646600">
                <a:off x="6442920" y="4005360"/>
                <a:ext cx="428760" cy="144000"/>
              </a:xfrm>
              <a:custGeom>
                <a:avLst/>
                <a:gdLst/>
                <a:ahLst/>
                <a:rect l="l" t="t" r="r" b="b"/>
                <a:pathLst>
                  <a:path fill="none" w="32202" h="21600">
                    <a:moveTo>
                      <a:pt x="-1" y="3327"/>
                    </a:moveTo>
                    <a:cubicBezTo>
                      <a:pt x="3448" y="1153"/>
                      <a:pt x="7442" y="-1"/>
                      <a:pt x="11519" y="0"/>
                    </a:cubicBezTo>
                    <a:cubicBezTo>
                      <a:pt x="21049" y="0"/>
                      <a:pt x="29454" y="6246"/>
                      <a:pt x="32201" y="15373"/>
                    </a:cubicBezTo>
                  </a:path>
                  <a:path stroke="0" w="32202" h="21600">
                    <a:moveTo>
                      <a:pt x="-1" y="3327"/>
                    </a:moveTo>
                    <a:cubicBezTo>
                      <a:pt x="3448" y="1153"/>
                      <a:pt x="7442" y="-1"/>
                      <a:pt x="11519" y="0"/>
                    </a:cubicBezTo>
                    <a:cubicBezTo>
                      <a:pt x="21049" y="0"/>
                      <a:pt x="29454" y="6246"/>
                      <a:pt x="32201" y="15373"/>
                    </a:cubicBezTo>
                    <a:lnTo>
                      <a:pt x="11519" y="21600"/>
                    </a:lnTo>
                    <a:lnTo>
                      <a:pt x="-1" y="3327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89"/>
            <p:cNvGrpSpPr/>
            <p:nvPr/>
          </p:nvGrpSpPr>
          <p:grpSpPr>
            <a:xfrm>
              <a:off x="6133680" y="4194720"/>
              <a:ext cx="709200" cy="516600"/>
              <a:chOff x="6133680" y="4194720"/>
              <a:chExt cx="709200" cy="516600"/>
            </a:xfrm>
          </p:grpSpPr>
          <p:sp>
            <p:nvSpPr>
              <p:cNvPr id="714" name="Arc 163"/>
              <p:cNvSpPr/>
              <p:nvPr/>
            </p:nvSpPr>
            <p:spPr>
              <a:xfrm flipH="1" rot="19878000">
                <a:off x="6282360" y="4417920"/>
                <a:ext cx="434880" cy="144360"/>
              </a:xfrm>
              <a:custGeom>
                <a:avLst/>
                <a:gdLst/>
                <a:ahLst/>
                <a:rect l="l" t="t" r="r" b="b"/>
                <a:pathLst>
                  <a:path fill="none" w="32829" h="21600">
                    <a:moveTo>
                      <a:pt x="-1" y="3752"/>
                    </a:moveTo>
                    <a:cubicBezTo>
                      <a:pt x="3586" y="1307"/>
                      <a:pt x="7826" y="-1"/>
                      <a:pt x="12167" y="0"/>
                    </a:cubicBezTo>
                    <a:cubicBezTo>
                      <a:pt x="21671" y="0"/>
                      <a:pt x="30059" y="6212"/>
                      <a:pt x="32829" y="15304"/>
                    </a:cubicBezTo>
                  </a:path>
                  <a:path stroke="0" w="32829" h="21600">
                    <a:moveTo>
                      <a:pt x="-1" y="3752"/>
                    </a:moveTo>
                    <a:cubicBezTo>
                      <a:pt x="3586" y="1307"/>
                      <a:pt x="7826" y="-1"/>
                      <a:pt x="12167" y="0"/>
                    </a:cubicBezTo>
                    <a:cubicBezTo>
                      <a:pt x="21671" y="0"/>
                      <a:pt x="30059" y="6212"/>
                      <a:pt x="32829" y="15304"/>
                    </a:cubicBezTo>
                    <a:lnTo>
                      <a:pt x="12167" y="21600"/>
                    </a:lnTo>
                    <a:lnTo>
                      <a:pt x="-1" y="3752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rc 164"/>
              <p:cNvSpPr/>
              <p:nvPr/>
            </p:nvSpPr>
            <p:spPr>
              <a:xfrm flipH="1" rot="19845000">
                <a:off x="6473880" y="4486320"/>
                <a:ext cx="355680" cy="147240"/>
              </a:xfrm>
              <a:custGeom>
                <a:avLst/>
                <a:gdLst/>
                <a:ahLst/>
                <a:rect l="l" t="t" r="r" b="b"/>
                <a:pathLst>
                  <a:path fill="none" w="26718" h="21600">
                    <a:moveTo>
                      <a:pt x="0" y="2635"/>
                    </a:moveTo>
                    <a:cubicBezTo>
                      <a:pt x="3171" y="906"/>
                      <a:pt x="6726" y="-1"/>
                      <a:pt x="10339" y="0"/>
                    </a:cubicBezTo>
                    <a:cubicBezTo>
                      <a:pt x="16633" y="0"/>
                      <a:pt x="22614" y="2745"/>
                      <a:pt x="26718" y="7518"/>
                    </a:cubicBezTo>
                  </a:path>
                  <a:path stroke="0" w="26718" h="21600">
                    <a:moveTo>
                      <a:pt x="0" y="2635"/>
                    </a:moveTo>
                    <a:cubicBezTo>
                      <a:pt x="3171" y="906"/>
                      <a:pt x="6726" y="-1"/>
                      <a:pt x="10339" y="0"/>
                    </a:cubicBezTo>
                    <a:cubicBezTo>
                      <a:pt x="16633" y="0"/>
                      <a:pt x="22614" y="2745"/>
                      <a:pt x="26718" y="7518"/>
                    </a:cubicBezTo>
                    <a:lnTo>
                      <a:pt x="10339" y="21600"/>
                    </a:lnTo>
                    <a:lnTo>
                      <a:pt x="0" y="2635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rc 165"/>
              <p:cNvSpPr/>
              <p:nvPr/>
            </p:nvSpPr>
            <p:spPr>
              <a:xfrm flipH="1" rot="18889200">
                <a:off x="6111720" y="4349880"/>
                <a:ext cx="498600" cy="146160"/>
              </a:xfrm>
              <a:custGeom>
                <a:avLst/>
                <a:gdLst/>
                <a:ahLst/>
                <a:rect l="l" t="t" r="r" b="b"/>
                <a:pathLst>
                  <a:path fill="none" w="37450" h="21600">
                    <a:moveTo>
                      <a:pt x="-1" y="7982"/>
                    </a:moveTo>
                    <a:cubicBezTo>
                      <a:pt x="4101" y="2932"/>
                      <a:pt x="10260" y="-1"/>
                      <a:pt x="16767" y="0"/>
                    </a:cubicBezTo>
                    <a:cubicBezTo>
                      <a:pt x="26297" y="0"/>
                      <a:pt x="34702" y="6246"/>
                      <a:pt x="37449" y="15373"/>
                    </a:cubicBezTo>
                  </a:path>
                  <a:path stroke="0" w="37450" h="21600">
                    <a:moveTo>
                      <a:pt x="-1" y="7982"/>
                    </a:moveTo>
                    <a:cubicBezTo>
                      <a:pt x="4101" y="2932"/>
                      <a:pt x="10260" y="-1"/>
                      <a:pt x="16767" y="0"/>
                    </a:cubicBezTo>
                    <a:cubicBezTo>
                      <a:pt x="26297" y="0"/>
                      <a:pt x="34702" y="6246"/>
                      <a:pt x="37449" y="15373"/>
                    </a:cubicBezTo>
                    <a:lnTo>
                      <a:pt x="16767" y="21600"/>
                    </a:lnTo>
                    <a:lnTo>
                      <a:pt x="-1" y="7982"/>
                    </a:lnTo>
                    <a:close/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Line 166"/>
            <p:cNvSpPr/>
            <p:nvPr/>
          </p:nvSpPr>
          <p:spPr>
            <a:xfrm flipV="1">
              <a:off x="1042920" y="2922840"/>
              <a:ext cx="5616720" cy="16840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67"/>
            <p:cNvSpPr/>
            <p:nvPr/>
          </p:nvSpPr>
          <p:spPr>
            <a:xfrm flipH="1" flipV="1">
              <a:off x="4356000" y="2409840"/>
              <a:ext cx="2592360" cy="2171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68"/>
            <p:cNvSpPr/>
            <p:nvPr/>
          </p:nvSpPr>
          <p:spPr>
            <a:xfrm flipH="1">
              <a:off x="4864320" y="1197000"/>
              <a:ext cx="1403280" cy="3456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72"/>
            <p:cNvSpPr/>
            <p:nvPr/>
          </p:nvSpPr>
          <p:spPr>
            <a:xfrm flipV="1">
              <a:off x="1042920" y="4616640"/>
              <a:ext cx="590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73"/>
            <p:cNvSpPr/>
            <p:nvPr/>
          </p:nvSpPr>
          <p:spPr>
            <a:xfrm>
              <a:off x="6283440" y="1165320"/>
              <a:ext cx="669960" cy="342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74"/>
            <p:cNvSpPr/>
            <p:nvPr/>
          </p:nvSpPr>
          <p:spPr>
            <a:xfrm flipV="1">
              <a:off x="1049040" y="1150560"/>
              <a:ext cx="5221440" cy="345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75"/>
            <p:cNvSpPr/>
            <p:nvPr/>
          </p:nvSpPr>
          <p:spPr>
            <a:xfrm>
              <a:off x="5372280" y="4599000"/>
              <a:ext cx="71280" cy="71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6"/>
            <p:cNvSpPr/>
            <p:nvPr/>
          </p:nvSpPr>
          <p:spPr>
            <a:xfrm>
              <a:off x="6926760" y="4577040"/>
              <a:ext cx="71280" cy="745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77"/>
            <p:cNvSpPr/>
            <p:nvPr/>
          </p:nvSpPr>
          <p:spPr>
            <a:xfrm>
              <a:off x="1008000" y="4577040"/>
              <a:ext cx="71280" cy="712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78"/>
            <p:cNvSpPr/>
            <p:nvPr/>
          </p:nvSpPr>
          <p:spPr>
            <a:xfrm>
              <a:off x="4859640" y="4581720"/>
              <a:ext cx="90360" cy="9036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79"/>
            <p:cNvSpPr/>
            <p:nvPr/>
          </p:nvSpPr>
          <p:spPr>
            <a:xfrm>
              <a:off x="4643640" y="2170080"/>
              <a:ext cx="71280" cy="7128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80"/>
            <p:cNvSpPr/>
            <p:nvPr/>
          </p:nvSpPr>
          <p:spPr>
            <a:xfrm>
              <a:off x="6240600" y="1122480"/>
              <a:ext cx="83880" cy="838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1"/>
            <p:cNvSpPr/>
            <p:nvPr/>
          </p:nvSpPr>
          <p:spPr>
            <a:xfrm>
              <a:off x="4322880" y="2360520"/>
              <a:ext cx="90360" cy="9036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2"/>
            <p:cNvSpPr/>
            <p:nvPr/>
          </p:nvSpPr>
          <p:spPr>
            <a:xfrm>
              <a:off x="6588360" y="2881440"/>
              <a:ext cx="90360" cy="9036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83"/>
            <p:cNvSpPr/>
            <p:nvPr/>
          </p:nvSpPr>
          <p:spPr>
            <a:xfrm>
              <a:off x="6618600" y="3033720"/>
              <a:ext cx="71280" cy="7128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85"/>
            <p:cNvSpPr/>
            <p:nvPr/>
          </p:nvSpPr>
          <p:spPr>
            <a:xfrm>
              <a:off x="4643640" y="479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187"/>
            <p:cNvSpPr/>
            <p:nvPr/>
          </p:nvSpPr>
          <p:spPr>
            <a:xfrm>
              <a:off x="4067280" y="19162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95"/>
            <p:cNvSpPr/>
            <p:nvPr/>
          </p:nvSpPr>
          <p:spPr>
            <a:xfrm flipH="1" flipV="1">
              <a:off x="4697280" y="2217240"/>
              <a:ext cx="1444680" cy="2156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6"/>
            <p:cNvSpPr/>
            <p:nvPr/>
          </p:nvSpPr>
          <p:spPr>
            <a:xfrm>
              <a:off x="5364360" y="3284640"/>
              <a:ext cx="107640" cy="10764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00"/>
            <p:cNvSpPr/>
            <p:nvPr/>
          </p:nvSpPr>
          <p:spPr>
            <a:xfrm flipH="1">
              <a:off x="5940360" y="3112200"/>
              <a:ext cx="6804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01"/>
            <p:cNvSpPr/>
            <p:nvPr/>
          </p:nvSpPr>
          <p:spPr>
            <a:xfrm flipH="1">
              <a:off x="5310720" y="4090680"/>
              <a:ext cx="179640" cy="11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02"/>
            <p:cNvSpPr/>
            <p:nvPr/>
          </p:nvSpPr>
          <p:spPr>
            <a:xfrm flipH="1">
              <a:off x="4962960" y="2633400"/>
              <a:ext cx="153720" cy="151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6" dur="3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Line 2"/>
          <p:cNvSpPr/>
          <p:nvPr/>
        </p:nvSpPr>
        <p:spPr>
          <a:xfrm>
            <a:off x="6227640" y="980280"/>
            <a:ext cx="1224000" cy="280692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"/>
          <p:cNvSpPr/>
          <p:nvPr/>
        </p:nvSpPr>
        <p:spPr>
          <a:xfrm>
            <a:off x="7026120" y="2799720"/>
            <a:ext cx="425520" cy="988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978200" y="333360"/>
            <a:ext cx="65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Comic Sans MS"/>
              </a:rPr>
              <a:t>Ортоцентр</a:t>
            </a:r>
            <a:r>
              <a:rPr b="1" lang="en-US" sz="3600" spc="-1" strike="noStrike">
                <a:solidFill>
                  <a:srgbClr val="464646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464646"/>
                </a:solidFill>
                <a:latin typeface="Comic Sans MS"/>
              </a:rPr>
              <a:t>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2647800" y="5157720"/>
            <a:ext cx="6027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снования высо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ртоцен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453960" y="3357720"/>
            <a:ext cx="3227400" cy="12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 flipV="1">
            <a:off x="453960" y="1459080"/>
            <a:ext cx="3054240" cy="18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3508200" y="1392120"/>
            <a:ext cx="173160" cy="32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108000" y="3154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3708360" y="44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1"/>
          <p:cNvSpPr/>
          <p:nvPr/>
        </p:nvSpPr>
        <p:spPr>
          <a:xfrm>
            <a:off x="3449520" y="105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2414520" y="4376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2583000" y="2708280"/>
            <a:ext cx="4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"/>
          <p:cNvSpPr/>
          <p:nvPr/>
        </p:nvSpPr>
        <p:spPr>
          <a:xfrm>
            <a:off x="3564000" y="27813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2009880" y="179244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 rot="21420000">
            <a:off x="3419640" y="2959200"/>
            <a:ext cx="172800" cy="20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 rot="19680000">
            <a:off x="2085480" y="2312640"/>
            <a:ext cx="173160" cy="20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 rot="1440000">
            <a:off x="2442960" y="3976560"/>
            <a:ext cx="17136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2"/>
          <p:cNvSpPr/>
          <p:nvPr/>
        </p:nvSpPr>
        <p:spPr>
          <a:xfrm rot="15706800">
            <a:off x="424440" y="3319920"/>
            <a:ext cx="85680" cy="87480"/>
          </a:xfrm>
          <a:prstGeom prst="ellipse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3"/>
          <p:cNvSpPr/>
          <p:nvPr/>
        </p:nvSpPr>
        <p:spPr>
          <a:xfrm flipV="1">
            <a:off x="453960" y="3153960"/>
            <a:ext cx="3138480" cy="204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5"/>
          <p:cNvSpPr/>
          <p:nvPr/>
        </p:nvSpPr>
        <p:spPr>
          <a:xfrm flipH="1" flipV="1">
            <a:off x="2195280" y="2276640"/>
            <a:ext cx="1477800" cy="23637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7"/>
          <p:cNvSpPr/>
          <p:nvPr/>
        </p:nvSpPr>
        <p:spPr>
          <a:xfrm flipV="1">
            <a:off x="5310360" y="3423960"/>
            <a:ext cx="295740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8"/>
          <p:cNvSpPr/>
          <p:nvPr/>
        </p:nvSpPr>
        <p:spPr>
          <a:xfrm flipV="1">
            <a:off x="5310360" y="2779200"/>
            <a:ext cx="1733400" cy="194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9"/>
          <p:cNvSpPr/>
          <p:nvPr/>
        </p:nvSpPr>
        <p:spPr>
          <a:xfrm>
            <a:off x="5003640" y="454500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0"/>
          <p:cNvSpPr/>
          <p:nvPr/>
        </p:nvSpPr>
        <p:spPr>
          <a:xfrm>
            <a:off x="8244000" y="32288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6659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2"/>
          <p:cNvSpPr/>
          <p:nvPr/>
        </p:nvSpPr>
        <p:spPr>
          <a:xfrm>
            <a:off x="6516720" y="147780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3"/>
          <p:cNvSpPr/>
          <p:nvPr/>
        </p:nvSpPr>
        <p:spPr>
          <a:xfrm>
            <a:off x="7451640" y="2198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 rot="20220000">
            <a:off x="7405200" y="3573000"/>
            <a:ext cx="152640" cy="1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7399440" y="378000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 rot="1620000">
            <a:off x="6246360" y="2445840"/>
            <a:ext cx="152640" cy="1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37"/>
          <p:cNvSpPr/>
          <p:nvPr/>
        </p:nvSpPr>
        <p:spPr>
          <a:xfrm>
            <a:off x="5614920" y="2070000"/>
            <a:ext cx="1433520" cy="73656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38"/>
          <p:cNvSpPr/>
          <p:nvPr/>
        </p:nvSpPr>
        <p:spPr>
          <a:xfrm flipH="1" flipV="1">
            <a:off x="7018200" y="2790720"/>
            <a:ext cx="123984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39"/>
          <p:cNvSpPr/>
          <p:nvPr/>
        </p:nvSpPr>
        <p:spPr>
          <a:xfrm>
            <a:off x="5867280" y="23493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 rot="18720000">
            <a:off x="7300800" y="2434680"/>
            <a:ext cx="154080" cy="1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1"/>
          <p:cNvSpPr/>
          <p:nvPr/>
        </p:nvSpPr>
        <p:spPr>
          <a:xfrm flipV="1">
            <a:off x="7027200" y="1850760"/>
            <a:ext cx="850680" cy="93636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2"/>
          <p:cNvSpPr/>
          <p:nvPr/>
        </p:nvSpPr>
        <p:spPr>
          <a:xfrm flipH="1" flipV="1">
            <a:off x="5940360" y="1341360"/>
            <a:ext cx="2314800" cy="2068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3"/>
          <p:cNvSpPr/>
          <p:nvPr/>
        </p:nvSpPr>
        <p:spPr>
          <a:xfrm flipH="1">
            <a:off x="5310360" y="1052640"/>
            <a:ext cx="1854000" cy="3666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44"/>
          <p:cNvSpPr/>
          <p:nvPr/>
        </p:nvSpPr>
        <p:spPr>
          <a:xfrm>
            <a:off x="6383160" y="2428920"/>
            <a:ext cx="11592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45"/>
          <p:cNvSpPr/>
          <p:nvPr/>
        </p:nvSpPr>
        <p:spPr>
          <a:xfrm>
            <a:off x="7203960" y="2463840"/>
            <a:ext cx="11592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46"/>
          <p:cNvSpPr/>
          <p:nvPr/>
        </p:nvSpPr>
        <p:spPr>
          <a:xfrm rot="15706800">
            <a:off x="8222760" y="3389400"/>
            <a:ext cx="85680" cy="856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47"/>
          <p:cNvSpPr/>
          <p:nvPr/>
        </p:nvSpPr>
        <p:spPr>
          <a:xfrm rot="15706800">
            <a:off x="5281200" y="4669920"/>
            <a:ext cx="86040" cy="856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8"/>
          <p:cNvSpPr/>
          <p:nvPr/>
        </p:nvSpPr>
        <p:spPr>
          <a:xfrm rot="15706800">
            <a:off x="3481920" y="1392840"/>
            <a:ext cx="85680" cy="87120"/>
          </a:xfrm>
          <a:prstGeom prst="ellipse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49"/>
          <p:cNvSpPr/>
          <p:nvPr/>
        </p:nvSpPr>
        <p:spPr>
          <a:xfrm>
            <a:off x="7388280" y="3716280"/>
            <a:ext cx="11592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50"/>
          <p:cNvSpPr/>
          <p:nvPr/>
        </p:nvSpPr>
        <p:spPr>
          <a:xfrm rot="15706800">
            <a:off x="3637440" y="4615200"/>
            <a:ext cx="86040" cy="87120"/>
          </a:xfrm>
          <a:prstGeom prst="ellipse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51"/>
          <p:cNvSpPr/>
          <p:nvPr/>
        </p:nvSpPr>
        <p:spPr>
          <a:xfrm>
            <a:off x="2139840" y="2224080"/>
            <a:ext cx="115920" cy="114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52"/>
          <p:cNvSpPr/>
          <p:nvPr/>
        </p:nvSpPr>
        <p:spPr>
          <a:xfrm>
            <a:off x="6980400" y="2741760"/>
            <a:ext cx="85680" cy="856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53"/>
          <p:cNvSpPr/>
          <p:nvPr/>
        </p:nvSpPr>
        <p:spPr>
          <a:xfrm>
            <a:off x="6621480" y="1952640"/>
            <a:ext cx="11592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2355840" y="4076640"/>
            <a:ext cx="11592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4"/>
          <p:cNvSpPr/>
          <p:nvPr/>
        </p:nvSpPr>
        <p:spPr>
          <a:xfrm flipH="1">
            <a:off x="2410920" y="1459080"/>
            <a:ext cx="1096920" cy="2690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7"/>
          <p:cNvSpPr/>
          <p:nvPr/>
        </p:nvSpPr>
        <p:spPr>
          <a:xfrm>
            <a:off x="2733840" y="3156120"/>
            <a:ext cx="114120" cy="115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1"/>
          <p:cNvSpPr/>
          <p:nvPr/>
        </p:nvSpPr>
        <p:spPr>
          <a:xfrm>
            <a:off x="3543480" y="3087720"/>
            <a:ext cx="115560" cy="115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1:26:57Z</dcterms:created>
  <dc:creator>Anton</dc:creator>
  <dc:description/>
  <dc:language>en-US</dc:language>
  <cp:lastModifiedBy>Root</cp:lastModifiedBy>
  <dcterms:modified xsi:type="dcterms:W3CDTF">2018-03-18T14:59:33Z</dcterms:modified>
  <cp:revision>197</cp:revision>
  <dc:subject/>
  <dc:title>Слайд 1</dc:title>
</cp:coreProperties>
</file>